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05CD-E5CD-4B7E-9B52-801250B21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ейти к слайду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0ED-2605-4206-AA28-962A718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2A5-6A0A-471C-9D9C-6999DEDF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E6A9F-CDB8-41CA-8C56-D46C06A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9032D-DF89-4400-97BA-B5C8289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EB0A0-6275-4E7B-8A92-86C6D39A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A9668-103D-4B67-BD63-B53A588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5462-CFD9-4EC5-BD0A-622E505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73DF-D1CE-48B5-87D7-4B742FB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A9D80-543A-42C4-BBA0-7514D3F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9B38F-FEB5-400B-B41E-19CCDF39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A00A0-164C-4B17-9DCC-E242CBA5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A10CA-1340-4BF5-A20F-33B82936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891-0DA3-4776-942C-EDFC80CC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9FB60B-74E3-4A4E-9CD4-A674A996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8B82C-6EAD-4B4A-B9A3-CF6290D2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4463BE-C6D6-4795-AF69-E843DA5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4C9A3-2E49-462A-B019-EAC0F5B2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A6133E-5411-4692-B87D-ED1401F5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14E60-CD48-47E4-89E2-DFD4F05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1D1AF-FA41-4DB6-9E28-F63BD68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663768-A8E4-4F95-A4A0-61277BC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7D431-0D5B-4468-AAC8-EBE6E9D4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39EA7-9E33-4D45-B7E5-FADF9F88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A3E-51DA-49C9-8692-F143F94A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6F6A8-CD0A-438D-B816-411E1598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4510C-3FED-478A-B363-BC815B56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8803-4ECF-4570-965E-319418F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F0AB-E2AD-4FA5-8342-0069865B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5EBDC-9660-4154-B70E-0B4D0A9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6695-00C6-4584-95B2-67AC095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F42E-9A99-485A-94DE-6700966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F4F8F-DC8A-4718-ADF9-8409330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093-C052-4374-8B2F-15F45C7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1448-59C9-49B1-97BF-7E419B8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71F8-7DE7-4C33-BA43-F3F698D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73E3-7B60-4A74-BCD4-3739FD5D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5C347-12BB-4C98-AB27-C46C03D2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2446-06E3-4CBB-83DB-BF88F17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47154-C025-4B8F-8FC0-F02BE05C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F0825-F28A-4B9B-8049-289B242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557D8-8D80-4219-882E-75973B9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57C15-4CC2-4E74-8043-0E0F9151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9E3C8-3BB4-49BB-A580-ED844F1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59D-88C4-4862-9FCB-10588CE6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77567-7A80-4E5E-AB48-7D4E035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D5935-CC94-423F-B637-012A2AF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1CF99-04F9-44C2-ABE1-5A494C5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0CFD7-0A4B-49E0-B64D-E9603BA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87A63-FCBE-41E5-A6BA-BE8D0F2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F6643-9068-4D8D-B632-AFA9C9C4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5998B-8C7E-4F6E-9826-D79F047C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AA75-75B9-4D63-8D0D-A80BD71C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9B07-CD03-4CFA-AF3A-6F877BF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E810-9DDD-44F3-91F7-D6896925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4E7-CB9F-43AD-9177-51882397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B0B3-5D95-4375-8BE8-CDB88E1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4DE3-BD36-42AD-996F-79333205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B6C6-5F15-41D9-998C-F0B1682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89E6-DA8D-4F12-9443-EDC2DA01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BCD7-B75E-4322-B529-E494A8FA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0DC3-874E-4390-B055-74A2C2D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66DB-1449-4A45-BF11-4B5EB654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AF3C-3619-4ACC-A74E-84E1E079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999B-89B2-42A3-9EBA-AED40881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1A1F-7E73-454C-A579-C6E780CB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839-B1F6-4930-BD8D-49FBB46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6810-A71F-4D59-832E-6D4648D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58BF-1450-4B96-BF26-B4EB771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DCA5-56E8-4AEB-B71E-13319A99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CE6D-58CA-47BC-AC09-E7E3D680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2DCB-0D24-471F-AEC4-BD99052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72BB-6D66-4DDB-8AB2-D36E60C0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7992B-24AD-44E2-943D-A3F5D73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26DE-55E0-4B9C-9A0A-3E1B5EF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84CD-4F3A-4D79-AC22-8D106A9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330D-E927-4337-A202-DEC1AB55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876-0857-47D5-A668-1AD0ED5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647C-5F2F-4247-9855-E28FB34E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6771-918F-48E1-B38F-062461D9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A229-872F-4EA9-888E-A716D38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4DA8-F5DF-4D32-B593-211D0007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A994-28C2-4D8F-9EEF-F275380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EC6A-45F9-4CEB-ADE2-48B151A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1B26-B552-4636-A900-ADC9E01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07DF-8A3A-4D36-B881-A75D6E1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AD7B-69D5-42BB-8525-2EE4FE42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4EF1-9312-40B0-95C0-04CB5BE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038-B564-4750-B65C-099D3C7A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DE18-56DE-4340-A371-F7DBA28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8AE38-8746-498F-B821-A0D4A4E6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7527-222F-42B8-9B96-4986F7E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9A82-1237-4C1D-A608-334BCB2F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4DAE-50D7-4118-B0CD-C48860D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BB57-76FD-4F25-A26A-3FD92D55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7D2D0-7476-40DA-929B-5FE5BD3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4F154-9FC6-4E34-9266-BDD1C56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22B64-99AF-4004-A146-0F39BAF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240B3-D28C-468C-B793-DCD216C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C8F-6E76-4FD3-B4C6-C6F70EF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20748-8978-417F-95E0-0CEF2EA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C4A1-74F0-4FD6-8C62-4806266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2C86-83EE-42B5-AFBB-7CFED45E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3D6D-7456-43C3-9767-E156FBB3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F994-06C3-490B-A6E1-AEAC5307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B72F-F47D-4458-BE48-F8C06D44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52020-0CF8-475F-BDEC-BE72A4BB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CE7D-9FA4-466C-A833-4480C81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02418-B246-41F8-A07E-F9A647F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630CE-FD1C-4494-9528-132FE8AD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B0A-9D7A-4064-ABF9-282028F1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1536-E1AC-4DB5-AA95-B2B330B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CDA8-E5C6-4987-91FA-C39736C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6802B-7B1F-4DBE-9718-E97B93D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908C-F12F-4323-9C18-7624504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1E95A-3067-422C-8DA7-53E99AA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25A1-304F-4C4A-9814-A759A9E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7C01-6055-4D13-98D1-799663D0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E1F9C-AC96-4B7F-8ED3-CE02882D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2A081-4662-4B32-91BA-2575B68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3932-98E1-46C2-9D8B-C4003D0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390-82DA-4496-BD86-754F20B45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7BE-768F-4C5A-A12D-3966927E95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3620-5B11-42A9-89BA-1D2A868F55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0F9F-D6AC-430A-90B0-E82118465B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D12-629E-4E13-8165-4990391187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7951-255E-4205-A246-9AA67D69A7A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661-7A77-4EA6-B9FF-A1CEA56C9FA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4F94-0A6E-41A9-B708-E3221D719D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CB54-A324-4883-8CB5-EAE2ED8734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4A1-4B6C-4BB5-90A3-9E30BE85D6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6.xml"/><Relationship Id="rId17" Type="http://schemas.openxmlformats.org/officeDocument/2006/relationships/slide" Target="slide15.xml"/><Relationship Id="rId18" Type="http://schemas.openxmlformats.org/officeDocument/2006/relationships/slide" Target="slide14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" Target="slide10.xml"/><Relationship Id="rId22" Type="http://schemas.openxmlformats.org/officeDocument/2006/relationships/slide" Target="slide11.xml"/><Relationship Id="rId23" Type="http://schemas.openxmlformats.org/officeDocument/2006/relationships/slide" Target="slide12.xml"/><Relationship Id="rId24" Type="http://schemas.openxmlformats.org/officeDocument/2006/relationships/slide" Target="slide13.xml"/><Relationship Id="rId25" Type="http://schemas.openxmlformats.org/officeDocument/2006/relationships/slide" Target="slide14.xml"/><Relationship Id="rId26" Type="http://schemas.openxmlformats.org/officeDocument/2006/relationships/slide" Target="slide15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slide" Target="slide18.xml"/><Relationship Id="rId30" Type="http://schemas.openxmlformats.org/officeDocument/2006/relationships/slide" Target="slide19.xml"/><Relationship Id="rId31" Type="http://schemas.openxmlformats.org/officeDocument/2006/relationships/slide" Target="slide20.xml"/><Relationship Id="rId32" Type="http://schemas.openxmlformats.org/officeDocument/2006/relationships/slide" Target="slide21.xml"/><Relationship Id="rId33" Type="http://schemas.openxmlformats.org/officeDocument/2006/relationships/slide" Target="slide22.xml"/><Relationship Id="rId34" Type="http://schemas.openxmlformats.org/officeDocument/2006/relationships/slide" Target="slide23.xml"/><Relationship Id="rId35" Type="http://schemas.openxmlformats.org/officeDocument/2006/relationships/slide" Target="slide24.xml"/><Relationship Id="rId36" Type="http://schemas.openxmlformats.org/officeDocument/2006/relationships/slide" Target="slide25.xml"/><Relationship Id="rId37" Type="http://schemas.openxmlformats.org/officeDocument/2006/relationships/slide" Target="slide26.xml"/><Relationship Id="rId38" Type="http://schemas.openxmlformats.org/officeDocument/2006/relationships/slide" Target="slide27.xml"/><Relationship Id="rId39" Type="http://schemas.openxmlformats.org/officeDocument/2006/relationships/slideLayout" Target="../slideLayouts/slideLayout25.xml"/><Relationship Id="rId4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ВОЯ ИГ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Учитель матема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10199"/>
                </a:solidFill>
                <a:latin typeface="Tahoma"/>
              </a:rPr>
              <a:t>Л.М. Бондарен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усский язык и литература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Сказка о пользе коллективного труд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">
            <a:hlinkClick r:id="rId1" action="ppaction://hlinksldjump"/>
          </p:cNvPr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усский язык и литература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Титан, похитивший огонь с Олимп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">
            <a:hlinkClick r:id="rId1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усский язык и литература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В какой сказке говорится о весьма плодотворном методе тестирования с целью выявления принадлежности к королевской фамилии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">
            <a:hlinkClick r:id="rId1" action="ppaction://hlinksldjump"/>
          </p:cNvPr>
          <p:cNvSpPr/>
          <p:nvPr/>
        </p:nvSpPr>
        <p:spPr>
          <a:xfrm>
            <a:off x="788508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озере росли лилии. Каждый день их число увеличивалось, и на 20-й день заросло всё озеро. На какой день озеро заросло на половин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">
            <a:hlinkClick r:id="rId2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мешке три пуда муки. Сколько нужно заплатить за муку, если один килограмм муки стоит 7 рубле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">
            <a:hlinkClick r:id="rId2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весит арбуз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116000" y="2997360"/>
            <a:ext cx="6624720" cy="2489040"/>
            <a:chOff x="1116000" y="2997360"/>
            <a:chExt cx="6624720" cy="2489040"/>
          </a:xfrm>
        </p:grpSpPr>
        <p:sp>
          <p:nvSpPr>
            <p:cNvPr id="640" name=""/>
            <p:cNvSpPr txBox="1"/>
            <p:nvPr/>
          </p:nvSpPr>
          <p:spPr>
            <a:xfrm>
              <a:off x="1116000" y="2997360"/>
              <a:ext cx="6624720" cy="248904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81400" y="5071680"/>
              <a:ext cx="2548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3200" y="3135240"/>
              <a:ext cx="1527840" cy="1521360"/>
            </a:xfrm>
            <a:prstGeom prst="ellipse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80640" y="3549960"/>
              <a:ext cx="170280" cy="691920"/>
            </a:xfrm>
            <a:custGeom>
              <a:avLst/>
              <a:gdLst/>
              <a:ahLst/>
              <a:rect l="l" t="t" r="r" b="b"/>
              <a:pathLst>
                <a:path w="240" h="900">
                  <a:moveTo>
                    <a:pt x="210" y="0"/>
                  </a:moveTo>
                  <a:cubicBezTo>
                    <a:pt x="180" y="0"/>
                    <a:pt x="60" y="120"/>
                    <a:pt x="30" y="180"/>
                  </a:cubicBezTo>
                  <a:cubicBezTo>
                    <a:pt x="0" y="240"/>
                    <a:pt x="30" y="300"/>
                    <a:pt x="30" y="360"/>
                  </a:cubicBezTo>
                  <a:cubicBezTo>
                    <a:pt x="30" y="420"/>
                    <a:pt x="30" y="480"/>
                    <a:pt x="30" y="540"/>
                  </a:cubicBezTo>
                  <a:cubicBezTo>
                    <a:pt x="30" y="600"/>
                    <a:pt x="0" y="660"/>
                    <a:pt x="30" y="720"/>
                  </a:cubicBezTo>
                  <a:cubicBezTo>
                    <a:pt x="60" y="780"/>
                    <a:pt x="180" y="900"/>
                    <a:pt x="210" y="900"/>
                  </a:cubicBezTo>
                  <a:cubicBezTo>
                    <a:pt x="240" y="900"/>
                    <a:pt x="240" y="780"/>
                    <a:pt x="210" y="720"/>
                  </a:cubicBezTo>
                  <a:cubicBezTo>
                    <a:pt x="180" y="660"/>
                    <a:pt x="60" y="600"/>
                    <a:pt x="30" y="540"/>
                  </a:cubicBezTo>
                  <a:cubicBezTo>
                    <a:pt x="0" y="480"/>
                    <a:pt x="0" y="420"/>
                    <a:pt x="30" y="360"/>
                  </a:cubicBezTo>
                  <a:cubicBezTo>
                    <a:pt x="60" y="300"/>
                    <a:pt x="180" y="240"/>
                    <a:pt x="210" y="180"/>
                  </a:cubicBezTo>
                  <a:cubicBezTo>
                    <a:pt x="240" y="120"/>
                    <a:pt x="240" y="0"/>
                    <a:pt x="21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9440" y="3549960"/>
              <a:ext cx="275040" cy="737640"/>
            </a:xfrm>
            <a:custGeom>
              <a:avLst/>
              <a:gdLst/>
              <a:ahLst/>
              <a:rect l="l" t="t" r="r" b="b"/>
              <a:pathLst>
                <a:path w="390" h="960">
                  <a:moveTo>
                    <a:pt x="0" y="30"/>
                  </a:moveTo>
                  <a:cubicBezTo>
                    <a:pt x="60" y="15"/>
                    <a:pt x="120" y="0"/>
                    <a:pt x="180" y="30"/>
                  </a:cubicBezTo>
                  <a:cubicBezTo>
                    <a:pt x="240" y="60"/>
                    <a:pt x="330" y="150"/>
                    <a:pt x="360" y="210"/>
                  </a:cubicBezTo>
                  <a:cubicBezTo>
                    <a:pt x="390" y="270"/>
                    <a:pt x="360" y="330"/>
                    <a:pt x="360" y="390"/>
                  </a:cubicBezTo>
                  <a:cubicBezTo>
                    <a:pt x="360" y="450"/>
                    <a:pt x="360" y="510"/>
                    <a:pt x="360" y="570"/>
                  </a:cubicBezTo>
                  <a:cubicBezTo>
                    <a:pt x="360" y="630"/>
                    <a:pt x="390" y="720"/>
                    <a:pt x="360" y="750"/>
                  </a:cubicBezTo>
                  <a:cubicBezTo>
                    <a:pt x="330" y="780"/>
                    <a:pt x="210" y="720"/>
                    <a:pt x="180" y="750"/>
                  </a:cubicBezTo>
                  <a:cubicBezTo>
                    <a:pt x="150" y="780"/>
                    <a:pt x="210" y="900"/>
                    <a:pt x="180" y="930"/>
                  </a:cubicBezTo>
                  <a:cubicBezTo>
                    <a:pt x="150" y="960"/>
                    <a:pt x="0" y="960"/>
                    <a:pt x="0" y="930"/>
                  </a:cubicBezTo>
                  <a:cubicBezTo>
                    <a:pt x="0" y="900"/>
                    <a:pt x="150" y="810"/>
                    <a:pt x="180" y="750"/>
                  </a:cubicBezTo>
                  <a:cubicBezTo>
                    <a:pt x="210" y="690"/>
                    <a:pt x="150" y="600"/>
                    <a:pt x="180" y="570"/>
                  </a:cubicBezTo>
                  <a:cubicBezTo>
                    <a:pt x="210" y="540"/>
                    <a:pt x="330" y="600"/>
                    <a:pt x="360" y="570"/>
                  </a:cubicBezTo>
                  <a:cubicBezTo>
                    <a:pt x="390" y="540"/>
                    <a:pt x="360" y="450"/>
                    <a:pt x="360" y="390"/>
                  </a:cubicBezTo>
                  <a:cubicBezTo>
                    <a:pt x="360" y="330"/>
                    <a:pt x="390" y="240"/>
                    <a:pt x="360" y="21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1880280" y="3134880"/>
              <a:ext cx="127800" cy="137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63720" y="4104000"/>
              <a:ext cx="636480" cy="54864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 к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1920" y="4242240"/>
              <a:ext cx="255240" cy="47556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39600" y="4242240"/>
              <a:ext cx="255960" cy="47556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43080" y="4242240"/>
              <a:ext cx="255960" cy="475560"/>
            </a:xfrm>
            <a:prstGeom prst="can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243080" y="4795200"/>
              <a:ext cx="3185280" cy="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10680" y="4795200"/>
              <a:ext cx="2802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281400" y="4794840"/>
              <a:ext cx="0" cy="276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5830200" y="4794840"/>
              <a:ext cx="0" cy="276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04240" y="3964680"/>
              <a:ext cx="510120" cy="6919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10680" y="4104000"/>
              <a:ext cx="636480" cy="5493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 к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5320" y="4104000"/>
              <a:ext cx="636120" cy="549360"/>
            </a:xfrm>
            <a:prstGeom prst="can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5 к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28360" y="5071680"/>
              <a:ext cx="383040" cy="275040"/>
            </a:xfrm>
            <a:prstGeom prst="triangle">
              <a:avLst>
                <a:gd name="adj" fmla="val 50000"/>
              </a:avLst>
            </a:prstGeom>
            <a:solidFill>
              <a:srgbClr val="3333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95880" y="4218120"/>
              <a:ext cx="785520" cy="461520"/>
            </a:xfrm>
            <a:custGeom>
              <a:avLst/>
              <a:gdLst/>
              <a:ahLst/>
              <a:rect l="l" t="t" r="r" b="b"/>
              <a:pathLst>
                <a:path w="1110" h="600">
                  <a:moveTo>
                    <a:pt x="1110" y="30"/>
                  </a:moveTo>
                  <a:cubicBezTo>
                    <a:pt x="1110" y="30"/>
                    <a:pt x="960" y="0"/>
                    <a:pt x="930" y="30"/>
                  </a:cubicBezTo>
                  <a:cubicBezTo>
                    <a:pt x="900" y="60"/>
                    <a:pt x="960" y="180"/>
                    <a:pt x="930" y="210"/>
                  </a:cubicBezTo>
                  <a:cubicBezTo>
                    <a:pt x="900" y="240"/>
                    <a:pt x="780" y="180"/>
                    <a:pt x="750" y="210"/>
                  </a:cubicBezTo>
                  <a:cubicBezTo>
                    <a:pt x="720" y="240"/>
                    <a:pt x="780" y="360"/>
                    <a:pt x="750" y="390"/>
                  </a:cubicBezTo>
                  <a:cubicBezTo>
                    <a:pt x="720" y="420"/>
                    <a:pt x="630" y="390"/>
                    <a:pt x="570" y="390"/>
                  </a:cubicBezTo>
                  <a:cubicBezTo>
                    <a:pt x="510" y="390"/>
                    <a:pt x="450" y="360"/>
                    <a:pt x="390" y="390"/>
                  </a:cubicBezTo>
                  <a:cubicBezTo>
                    <a:pt x="330" y="420"/>
                    <a:pt x="270" y="540"/>
                    <a:pt x="210" y="570"/>
                  </a:cubicBezTo>
                  <a:cubicBezTo>
                    <a:pt x="150" y="600"/>
                    <a:pt x="60" y="600"/>
                    <a:pt x="30" y="570"/>
                  </a:cubicBezTo>
                  <a:cubicBezTo>
                    <a:pt x="0" y="540"/>
                    <a:pt x="0" y="420"/>
                    <a:pt x="30" y="390"/>
                  </a:cubicBezTo>
                  <a:cubicBezTo>
                    <a:pt x="60" y="360"/>
                    <a:pt x="150" y="390"/>
                    <a:pt x="210" y="390"/>
                  </a:cubicBezTo>
                  <a:cubicBezTo>
                    <a:pt x="270" y="390"/>
                    <a:pt x="360" y="420"/>
                    <a:pt x="390" y="390"/>
                  </a:cubicBezTo>
                  <a:cubicBezTo>
                    <a:pt x="420" y="360"/>
                    <a:pt x="360" y="240"/>
                    <a:pt x="390" y="210"/>
                  </a:cubicBezTo>
                  <a:cubicBezTo>
                    <a:pt x="420" y="180"/>
                    <a:pt x="540" y="240"/>
                    <a:pt x="570" y="210"/>
                  </a:cubicBezTo>
                  <a:cubicBezTo>
                    <a:pt x="600" y="180"/>
                    <a:pt x="540" y="60"/>
                    <a:pt x="570" y="30"/>
                  </a:cubicBezTo>
                  <a:cubicBezTo>
                    <a:pt x="600" y="0"/>
                    <a:pt x="690" y="30"/>
                    <a:pt x="750" y="30"/>
                  </a:cubicBezTo>
                  <a:cubicBezTo>
                    <a:pt x="810" y="30"/>
                    <a:pt x="870" y="30"/>
                    <a:pt x="930" y="30"/>
                  </a:cubicBezTo>
                  <a:cubicBezTo>
                    <a:pt x="990" y="30"/>
                    <a:pt x="1110" y="30"/>
                    <a:pt x="1110" y="3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86480" y="3273480"/>
              <a:ext cx="933840" cy="1267560"/>
            </a:xfrm>
            <a:custGeom>
              <a:avLst/>
              <a:gdLst/>
              <a:ahLst/>
              <a:rect l="l" t="t" r="r" b="b"/>
              <a:pathLst>
                <a:path w="1320" h="1650">
                  <a:moveTo>
                    <a:pt x="30" y="0"/>
                  </a:moveTo>
                  <a:cubicBezTo>
                    <a:pt x="30" y="0"/>
                    <a:pt x="0" y="120"/>
                    <a:pt x="30" y="180"/>
                  </a:cubicBezTo>
                  <a:cubicBezTo>
                    <a:pt x="60" y="240"/>
                    <a:pt x="180" y="300"/>
                    <a:pt x="210" y="360"/>
                  </a:cubicBezTo>
                  <a:cubicBezTo>
                    <a:pt x="240" y="420"/>
                    <a:pt x="210" y="480"/>
                    <a:pt x="210" y="540"/>
                  </a:cubicBezTo>
                  <a:cubicBezTo>
                    <a:pt x="210" y="600"/>
                    <a:pt x="180" y="660"/>
                    <a:pt x="210" y="720"/>
                  </a:cubicBezTo>
                  <a:cubicBezTo>
                    <a:pt x="240" y="780"/>
                    <a:pt x="360" y="840"/>
                    <a:pt x="390" y="900"/>
                  </a:cubicBezTo>
                  <a:cubicBezTo>
                    <a:pt x="420" y="960"/>
                    <a:pt x="390" y="1020"/>
                    <a:pt x="390" y="1080"/>
                  </a:cubicBezTo>
                  <a:cubicBezTo>
                    <a:pt x="390" y="1140"/>
                    <a:pt x="360" y="1230"/>
                    <a:pt x="390" y="1260"/>
                  </a:cubicBezTo>
                  <a:cubicBezTo>
                    <a:pt x="420" y="1290"/>
                    <a:pt x="510" y="1230"/>
                    <a:pt x="570" y="1260"/>
                  </a:cubicBezTo>
                  <a:cubicBezTo>
                    <a:pt x="630" y="1290"/>
                    <a:pt x="690" y="1410"/>
                    <a:pt x="750" y="1440"/>
                  </a:cubicBezTo>
                  <a:cubicBezTo>
                    <a:pt x="810" y="1470"/>
                    <a:pt x="870" y="1410"/>
                    <a:pt x="930" y="1440"/>
                  </a:cubicBezTo>
                  <a:cubicBezTo>
                    <a:pt x="990" y="1470"/>
                    <a:pt x="1050" y="1590"/>
                    <a:pt x="1110" y="1620"/>
                  </a:cubicBezTo>
                  <a:cubicBezTo>
                    <a:pt x="1170" y="1650"/>
                    <a:pt x="1260" y="1650"/>
                    <a:pt x="1290" y="1620"/>
                  </a:cubicBezTo>
                  <a:cubicBezTo>
                    <a:pt x="1320" y="1590"/>
                    <a:pt x="1320" y="1470"/>
                    <a:pt x="1290" y="1440"/>
                  </a:cubicBezTo>
                  <a:cubicBezTo>
                    <a:pt x="1260" y="1410"/>
                    <a:pt x="1200" y="1470"/>
                    <a:pt x="1110" y="1440"/>
                  </a:cubicBezTo>
                  <a:cubicBezTo>
                    <a:pt x="1020" y="1410"/>
                    <a:pt x="810" y="1320"/>
                    <a:pt x="750" y="1260"/>
                  </a:cubicBezTo>
                  <a:cubicBezTo>
                    <a:pt x="690" y="1200"/>
                    <a:pt x="780" y="1140"/>
                    <a:pt x="750" y="1080"/>
                  </a:cubicBezTo>
                  <a:cubicBezTo>
                    <a:pt x="720" y="1020"/>
                    <a:pt x="630" y="960"/>
                    <a:pt x="570" y="900"/>
                  </a:cubicBezTo>
                  <a:cubicBezTo>
                    <a:pt x="510" y="840"/>
                    <a:pt x="420" y="780"/>
                    <a:pt x="390" y="720"/>
                  </a:cubicBezTo>
                  <a:cubicBezTo>
                    <a:pt x="360" y="660"/>
                    <a:pt x="390" y="600"/>
                    <a:pt x="390" y="540"/>
                  </a:cubicBezTo>
                  <a:cubicBezTo>
                    <a:pt x="390" y="480"/>
                    <a:pt x="420" y="390"/>
                    <a:pt x="390" y="360"/>
                  </a:cubicBezTo>
                  <a:cubicBezTo>
                    <a:pt x="360" y="330"/>
                    <a:pt x="270" y="390"/>
                    <a:pt x="210" y="360"/>
                  </a:cubicBezTo>
                  <a:cubicBezTo>
                    <a:pt x="150" y="330"/>
                    <a:pt x="60" y="240"/>
                    <a:pt x="30" y="180"/>
                  </a:cubicBezTo>
                  <a:cubicBezTo>
                    <a:pt x="0" y="120"/>
                    <a:pt x="30" y="0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07360" y="3250800"/>
              <a:ext cx="912600" cy="1267560"/>
            </a:xfrm>
            <a:custGeom>
              <a:avLst/>
              <a:gdLst/>
              <a:ahLst/>
              <a:rect l="l" t="t" r="r" b="b"/>
              <a:pathLst>
                <a:path w="1290" h="1650">
                  <a:moveTo>
                    <a:pt x="1260" y="1650"/>
                  </a:moveTo>
                  <a:cubicBezTo>
                    <a:pt x="1260" y="1590"/>
                    <a:pt x="1260" y="1530"/>
                    <a:pt x="1260" y="1470"/>
                  </a:cubicBezTo>
                  <a:cubicBezTo>
                    <a:pt x="1260" y="1410"/>
                    <a:pt x="1260" y="1350"/>
                    <a:pt x="1260" y="1290"/>
                  </a:cubicBezTo>
                  <a:cubicBezTo>
                    <a:pt x="1260" y="1230"/>
                    <a:pt x="1260" y="1170"/>
                    <a:pt x="1260" y="1110"/>
                  </a:cubicBezTo>
                  <a:cubicBezTo>
                    <a:pt x="1260" y="1050"/>
                    <a:pt x="1290" y="990"/>
                    <a:pt x="1260" y="930"/>
                  </a:cubicBezTo>
                  <a:cubicBezTo>
                    <a:pt x="1230" y="870"/>
                    <a:pt x="1110" y="810"/>
                    <a:pt x="1080" y="750"/>
                  </a:cubicBezTo>
                  <a:cubicBezTo>
                    <a:pt x="1050" y="690"/>
                    <a:pt x="1110" y="600"/>
                    <a:pt x="1080" y="570"/>
                  </a:cubicBezTo>
                  <a:cubicBezTo>
                    <a:pt x="1050" y="540"/>
                    <a:pt x="960" y="600"/>
                    <a:pt x="900" y="570"/>
                  </a:cubicBezTo>
                  <a:cubicBezTo>
                    <a:pt x="840" y="540"/>
                    <a:pt x="750" y="450"/>
                    <a:pt x="720" y="390"/>
                  </a:cubicBezTo>
                  <a:cubicBezTo>
                    <a:pt x="690" y="330"/>
                    <a:pt x="750" y="240"/>
                    <a:pt x="720" y="210"/>
                  </a:cubicBezTo>
                  <a:cubicBezTo>
                    <a:pt x="690" y="180"/>
                    <a:pt x="600" y="210"/>
                    <a:pt x="540" y="210"/>
                  </a:cubicBezTo>
                  <a:cubicBezTo>
                    <a:pt x="480" y="210"/>
                    <a:pt x="420" y="210"/>
                    <a:pt x="360" y="210"/>
                  </a:cubicBezTo>
                  <a:cubicBezTo>
                    <a:pt x="300" y="210"/>
                    <a:pt x="210" y="240"/>
                    <a:pt x="180" y="210"/>
                  </a:cubicBezTo>
                  <a:cubicBezTo>
                    <a:pt x="150" y="180"/>
                    <a:pt x="210" y="60"/>
                    <a:pt x="180" y="30"/>
                  </a:cubicBezTo>
                  <a:cubicBezTo>
                    <a:pt x="150" y="0"/>
                    <a:pt x="0" y="30"/>
                    <a:pt x="0" y="30"/>
                  </a:cubicBezTo>
                  <a:cubicBezTo>
                    <a:pt x="0" y="30"/>
                    <a:pt x="120" y="30"/>
                    <a:pt x="180" y="30"/>
                  </a:cubicBezTo>
                  <a:cubicBezTo>
                    <a:pt x="240" y="30"/>
                    <a:pt x="300" y="30"/>
                    <a:pt x="360" y="30"/>
                  </a:cubicBezTo>
                  <a:cubicBezTo>
                    <a:pt x="420" y="30"/>
                    <a:pt x="480" y="30"/>
                    <a:pt x="540" y="30"/>
                  </a:cubicBezTo>
                  <a:cubicBezTo>
                    <a:pt x="600" y="30"/>
                    <a:pt x="690" y="0"/>
                    <a:pt x="720" y="30"/>
                  </a:cubicBezTo>
                  <a:cubicBezTo>
                    <a:pt x="750" y="60"/>
                    <a:pt x="690" y="180"/>
                    <a:pt x="720" y="210"/>
                  </a:cubicBezTo>
                  <a:cubicBezTo>
                    <a:pt x="750" y="240"/>
                    <a:pt x="870" y="180"/>
                    <a:pt x="900" y="210"/>
                  </a:cubicBezTo>
                  <a:cubicBezTo>
                    <a:pt x="930" y="240"/>
                    <a:pt x="870" y="360"/>
                    <a:pt x="900" y="390"/>
                  </a:cubicBezTo>
                  <a:cubicBezTo>
                    <a:pt x="930" y="420"/>
                    <a:pt x="1020" y="360"/>
                    <a:pt x="1080" y="390"/>
                  </a:cubicBezTo>
                  <a:cubicBezTo>
                    <a:pt x="1140" y="420"/>
                    <a:pt x="1230" y="510"/>
                    <a:pt x="1260" y="570"/>
                  </a:cubicBezTo>
                  <a:cubicBezTo>
                    <a:pt x="1290" y="630"/>
                    <a:pt x="1260" y="690"/>
                    <a:pt x="1260" y="750"/>
                  </a:cubicBezTo>
                  <a:cubicBezTo>
                    <a:pt x="1260" y="810"/>
                    <a:pt x="1260" y="870"/>
                    <a:pt x="1260" y="930"/>
                  </a:cubicBezTo>
                  <a:cubicBezTo>
                    <a:pt x="1260" y="990"/>
                    <a:pt x="1260" y="1050"/>
                    <a:pt x="1260" y="1110"/>
                  </a:cubicBezTo>
                  <a:cubicBezTo>
                    <a:pt x="1260" y="1170"/>
                    <a:pt x="1260" y="1230"/>
                    <a:pt x="1260" y="129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07360" y="4242240"/>
              <a:ext cx="678600" cy="295920"/>
            </a:xfrm>
            <a:custGeom>
              <a:avLst/>
              <a:gdLst/>
              <a:ahLst/>
              <a:rect l="l" t="t" r="r" b="b"/>
              <a:pathLst>
                <a:path w="960" h="390">
                  <a:moveTo>
                    <a:pt x="930" y="180"/>
                  </a:moveTo>
                  <a:cubicBezTo>
                    <a:pt x="945" y="255"/>
                    <a:pt x="960" y="330"/>
                    <a:pt x="930" y="360"/>
                  </a:cubicBezTo>
                  <a:cubicBezTo>
                    <a:pt x="900" y="390"/>
                    <a:pt x="810" y="390"/>
                    <a:pt x="750" y="360"/>
                  </a:cubicBezTo>
                  <a:cubicBezTo>
                    <a:pt x="690" y="330"/>
                    <a:pt x="630" y="210"/>
                    <a:pt x="570" y="180"/>
                  </a:cubicBezTo>
                  <a:cubicBezTo>
                    <a:pt x="510" y="150"/>
                    <a:pt x="450" y="180"/>
                    <a:pt x="390" y="180"/>
                  </a:cubicBezTo>
                  <a:cubicBezTo>
                    <a:pt x="330" y="180"/>
                    <a:pt x="270" y="180"/>
                    <a:pt x="210" y="180"/>
                  </a:cubicBezTo>
                  <a:cubicBezTo>
                    <a:pt x="150" y="180"/>
                    <a:pt x="60" y="210"/>
                    <a:pt x="30" y="180"/>
                  </a:cubicBezTo>
                  <a:cubicBezTo>
                    <a:pt x="0" y="150"/>
                    <a:pt x="30" y="0"/>
                    <a:pt x="30" y="0"/>
                  </a:cubicBezTo>
                  <a:cubicBezTo>
                    <a:pt x="30" y="0"/>
                    <a:pt x="0" y="150"/>
                    <a:pt x="30" y="180"/>
                  </a:cubicBezTo>
                  <a:cubicBezTo>
                    <a:pt x="60" y="210"/>
                    <a:pt x="180" y="150"/>
                    <a:pt x="210" y="180"/>
                  </a:cubicBezTo>
                  <a:cubicBezTo>
                    <a:pt x="240" y="210"/>
                    <a:pt x="180" y="330"/>
                    <a:pt x="210" y="360"/>
                  </a:cubicBezTo>
                  <a:cubicBezTo>
                    <a:pt x="240" y="390"/>
                    <a:pt x="330" y="360"/>
                    <a:pt x="390" y="360"/>
                  </a:cubicBezTo>
                  <a:cubicBezTo>
                    <a:pt x="450" y="360"/>
                    <a:pt x="510" y="360"/>
                    <a:pt x="570" y="360"/>
                  </a:cubicBezTo>
                  <a:cubicBezTo>
                    <a:pt x="630" y="360"/>
                    <a:pt x="690" y="360"/>
                    <a:pt x="750" y="36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16760" y="3112560"/>
              <a:ext cx="403200" cy="299160"/>
            </a:xfrm>
            <a:custGeom>
              <a:avLst/>
              <a:gdLst/>
              <a:ahLst/>
              <a:rect l="l" t="t" r="r" b="b"/>
              <a:pathLst>
                <a:path w="570" h="390">
                  <a:moveTo>
                    <a:pt x="0" y="30"/>
                  </a:moveTo>
                  <a:cubicBezTo>
                    <a:pt x="0" y="30"/>
                    <a:pt x="150" y="0"/>
                    <a:pt x="180" y="30"/>
                  </a:cubicBezTo>
                  <a:cubicBezTo>
                    <a:pt x="210" y="60"/>
                    <a:pt x="150" y="180"/>
                    <a:pt x="180" y="210"/>
                  </a:cubicBezTo>
                  <a:cubicBezTo>
                    <a:pt x="210" y="240"/>
                    <a:pt x="300" y="180"/>
                    <a:pt x="360" y="210"/>
                  </a:cubicBezTo>
                  <a:cubicBezTo>
                    <a:pt x="420" y="240"/>
                    <a:pt x="510" y="390"/>
                    <a:pt x="540" y="390"/>
                  </a:cubicBezTo>
                  <a:cubicBezTo>
                    <a:pt x="570" y="390"/>
                    <a:pt x="570" y="240"/>
                    <a:pt x="540" y="210"/>
                  </a:cubicBezTo>
                  <a:cubicBezTo>
                    <a:pt x="510" y="180"/>
                    <a:pt x="390" y="240"/>
                    <a:pt x="360" y="210"/>
                  </a:cubicBezTo>
                  <a:cubicBezTo>
                    <a:pt x="330" y="180"/>
                    <a:pt x="390" y="60"/>
                    <a:pt x="360" y="30"/>
                  </a:cubicBezTo>
                  <a:cubicBezTo>
                    <a:pt x="330" y="0"/>
                    <a:pt x="240" y="30"/>
                    <a:pt x="180" y="30"/>
                  </a:cubicBezTo>
                  <a:cubicBezTo>
                    <a:pt x="120" y="30"/>
                    <a:pt x="0" y="30"/>
                    <a:pt x="0" y="3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80640" y="3112560"/>
              <a:ext cx="147960" cy="160920"/>
            </a:xfrm>
            <a:custGeom>
              <a:avLst/>
              <a:gdLst/>
              <a:ahLst/>
              <a:rect l="l" t="t" r="r" b="b"/>
              <a:pathLst>
                <a:path w="210" h="210">
                  <a:moveTo>
                    <a:pt x="180" y="210"/>
                  </a:moveTo>
                  <a:cubicBezTo>
                    <a:pt x="210" y="210"/>
                    <a:pt x="210" y="60"/>
                    <a:pt x="180" y="30"/>
                  </a:cubicBezTo>
                  <a:cubicBezTo>
                    <a:pt x="150" y="0"/>
                    <a:pt x="0" y="0"/>
                    <a:pt x="0" y="30"/>
                  </a:cubicBezTo>
                  <a:cubicBezTo>
                    <a:pt x="0" y="60"/>
                    <a:pt x="150" y="210"/>
                    <a:pt x="180" y="21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>
            <a:off x="1258920" y="4797360"/>
            <a:ext cx="31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59280" y="4797360"/>
            <a:ext cx="2737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>
            <a:hlinkClick r:id="rId2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з двух селений навстречу друг другу выехали два велосипедиста: первый со скоростью 20 км/ч, второй – 15 км/ч. Чему равно расстояние между ними за 2 часа до встреч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">
            <a:hlinkClick r:id="rId2" action="ppaction://hlinksldjump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ри различных числа сначала сложили, а затем их же перемножили. Сумма и произведение оказались равными. Какие это числ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7885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узыкальная капель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Буквы разные пис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Тонким пёрышком в тетра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Учат в школе, учат в шко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Вычитать и умнож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Малышей не обиж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Учат в школе, учат в шко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Music"/>
          <p:cNvSpPr/>
          <p:nvPr/>
        </p:nvSpPr>
        <p:spPr>
          <a:xfrm rot="20354400">
            <a:off x="610920" y="549000"/>
            <a:ext cx="1081080" cy="100800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узыкальная капель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Дважды два четыр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Дважды два четыр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Это всем известно в целом мире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Music"/>
          <p:cNvSpPr/>
          <p:nvPr/>
        </p:nvSpPr>
        <p:spPr>
          <a:xfrm rot="20354400">
            <a:off x="610920" y="549000"/>
            <a:ext cx="1081080" cy="100800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>
            <a:hlinkClick r:id="rId2" action="ppaction://hlinksldjump"/>
          </p:cNvPr>
          <p:cNvSpPr/>
          <p:nvPr/>
        </p:nvSpPr>
        <p:spPr>
          <a:xfrm>
            <a:off x="7885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476280"/>
          <a:ext cx="8778960" cy="6021360"/>
        </p:xfrm>
        <a:graphic>
          <a:graphicData uri="http://schemas.openxmlformats.org/drawingml/2006/table">
            <a:tbl>
              <a:tblPr/>
              <a:tblGrid>
                <a:gridCol w="2778120"/>
                <a:gridCol w="1200240"/>
                <a:gridCol w="1200240"/>
                <a:gridCol w="1200240"/>
                <a:gridCol w="1199880"/>
                <a:gridCol w="120024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ЗАГАДКИ И ШАРА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РУССКИЙ ЯЗЫК И ЛИТЕРАТУ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МУЗЫКАЛЬНАЯ КАП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МАТЕМА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 rot="10560600">
            <a:off x="250560" y="47556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207648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5928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87640" y="198900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284640"/>
            <a:ext cx="1152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5928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836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12000" y="83664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88000" y="836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08720" y="836640"/>
            <a:ext cx="107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11640" y="836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>
            <a:hlinkClick r:id="rId8" action="ppaction://hlinksldjump"/>
          </p:cNvPr>
          <p:cNvSpPr/>
          <p:nvPr/>
        </p:nvSpPr>
        <p:spPr>
          <a:xfrm>
            <a:off x="4859280" y="1197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>
            <a:hlinkClick r:id="rId9" action="ppaction://hlinksldjump"/>
          </p:cNvPr>
          <p:cNvSpPr/>
          <p:nvPr/>
        </p:nvSpPr>
        <p:spPr>
          <a:xfrm>
            <a:off x="5940360" y="119700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>
            <a:hlinkClick r:id="rId10" action="ppaction://hlinksldjump"/>
          </p:cNvPr>
          <p:cNvSpPr/>
          <p:nvPr/>
        </p:nvSpPr>
        <p:spPr>
          <a:xfrm>
            <a:off x="7093080" y="112536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>
            <a:hlinkClick r:id="rId11" action="ppaction://hlinksldjump"/>
          </p:cNvPr>
          <p:cNvSpPr/>
          <p:nvPr/>
        </p:nvSpPr>
        <p:spPr>
          <a:xfrm>
            <a:off x="8317080" y="1125360"/>
            <a:ext cx="431640" cy="505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72">
                <a:moveTo>
                  <a:pt x="0" y="0"/>
                </a:moveTo>
                <a:lnTo>
                  <a:pt x="21600" y="0"/>
                </a:lnTo>
                <a:lnTo>
                  <a:pt x="21600" y="25272"/>
                </a:lnTo>
                <a:lnTo>
                  <a:pt x="0" y="25272"/>
                </a:lnTo>
                <a:close/>
              </a:path>
              <a:path fill="lightenLess" w="21600" h="252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72">
                <a:moveTo>
                  <a:pt x="21600" y="0"/>
                </a:moveTo>
                <a:lnTo>
                  <a:pt x="21600" y="25272"/>
                </a:lnTo>
                <a:lnTo>
                  <a:pt x="20200" y="23872"/>
                </a:lnTo>
                <a:lnTo>
                  <a:pt x="20200" y="1400"/>
                </a:lnTo>
                <a:close/>
              </a:path>
              <a:path fill="darkenLess" w="21600" h="25272">
                <a:moveTo>
                  <a:pt x="21600" y="25272"/>
                </a:moveTo>
                <a:lnTo>
                  <a:pt x="0" y="25272"/>
                </a:lnTo>
                <a:lnTo>
                  <a:pt x="1400" y="23872"/>
                </a:lnTo>
                <a:lnTo>
                  <a:pt x="20200" y="23872"/>
                </a:lnTo>
                <a:close/>
              </a:path>
              <a:path fill="lighten" w="21600" h="25272">
                <a:moveTo>
                  <a:pt x="0" y="252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211640" y="443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211640" y="198900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2" action="ppaction://hlinksldjump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35640" y="198900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3" action="ppaction://hlinksldjump"/>
              </a:rPr>
              <a:t>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588000" y="196020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4" action="ppaction://hlinksldjump"/>
              </a:rPr>
              <a:t>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812000" y="198900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5" action="ppaction://hlinksldjump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81200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88000" y="3284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6" action="ppaction://hlinksldjump"/>
              </a:rPr>
              <a:t>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35640" y="3284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7" action="ppaction://hlinksldjump"/>
              </a:rPr>
              <a:t>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812000" y="57340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812000" y="4437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88000" y="443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640" y="4437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11640" y="3284640"/>
            <a:ext cx="107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8" action="ppaction://hlinksldjump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88000" y="566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35640" y="566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11640" y="566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>
            <a:hlinkClick r:id="rId19" action="ppaction://hlinksldjump"/>
          </p:cNvPr>
          <p:cNvSpPr/>
          <p:nvPr/>
        </p:nvSpPr>
        <p:spPr>
          <a:xfrm>
            <a:off x="3492360" y="2421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>
            <a:hlinkClick r:id="rId20" action="ppaction://hlinksldjump"/>
          </p:cNvPr>
          <p:cNvSpPr/>
          <p:nvPr/>
        </p:nvSpPr>
        <p:spPr>
          <a:xfrm>
            <a:off x="4788000" y="2421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>
            <a:hlinkClick r:id="rId21" action="ppaction://hlinksldjump"/>
          </p:cNvPr>
          <p:cNvSpPr/>
          <p:nvPr/>
        </p:nvSpPr>
        <p:spPr>
          <a:xfrm>
            <a:off x="5867280" y="2421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>
            <a:hlinkClick r:id="rId22" action="ppaction://hlinksldjump"/>
          </p:cNvPr>
          <p:cNvSpPr/>
          <p:nvPr/>
        </p:nvSpPr>
        <p:spPr>
          <a:xfrm>
            <a:off x="7164360" y="2421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>
            <a:hlinkClick r:id="rId23" action="ppaction://hlinksldjump"/>
          </p:cNvPr>
          <p:cNvSpPr/>
          <p:nvPr/>
        </p:nvSpPr>
        <p:spPr>
          <a:xfrm>
            <a:off x="8388360" y="2421000"/>
            <a:ext cx="358920" cy="43164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972">
                <a:moveTo>
                  <a:pt x="0" y="0"/>
                </a:moveTo>
                <a:lnTo>
                  <a:pt x="21600" y="0"/>
                </a:lnTo>
                <a:lnTo>
                  <a:pt x="21600" y="25972"/>
                </a:lnTo>
                <a:lnTo>
                  <a:pt x="0" y="25972"/>
                </a:lnTo>
                <a:close/>
              </a:path>
              <a:path fill="lightenLess" w="21600" h="25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72">
                <a:moveTo>
                  <a:pt x="21600" y="0"/>
                </a:moveTo>
                <a:lnTo>
                  <a:pt x="21600" y="25972"/>
                </a:lnTo>
                <a:lnTo>
                  <a:pt x="20200" y="24572"/>
                </a:lnTo>
                <a:lnTo>
                  <a:pt x="20200" y="1400"/>
                </a:lnTo>
                <a:close/>
              </a:path>
              <a:path fill="darkenLess" w="21600" h="25972">
                <a:moveTo>
                  <a:pt x="21600" y="25972"/>
                </a:moveTo>
                <a:lnTo>
                  <a:pt x="0" y="25972"/>
                </a:lnTo>
                <a:lnTo>
                  <a:pt x="1400" y="24572"/>
                </a:lnTo>
                <a:lnTo>
                  <a:pt x="20200" y="24572"/>
                </a:lnTo>
                <a:close/>
              </a:path>
              <a:path fill="lighten" w="21600" h="25972">
                <a:moveTo>
                  <a:pt x="0" y="25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>
            <a:hlinkClick r:id="rId24" action="ppaction://hlinksldjump"/>
          </p:cNvPr>
          <p:cNvSpPr/>
          <p:nvPr/>
        </p:nvSpPr>
        <p:spPr>
          <a:xfrm>
            <a:off x="3564000" y="3573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>
            <a:hlinkClick r:id="rId25" action="ppaction://hlinksldjump"/>
          </p:cNvPr>
          <p:cNvSpPr/>
          <p:nvPr/>
        </p:nvSpPr>
        <p:spPr>
          <a:xfrm>
            <a:off x="4788000" y="364500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>
            <a:hlinkClick r:id="rId26" action="ppaction://hlinksldjump"/>
          </p:cNvPr>
          <p:cNvSpPr/>
          <p:nvPr/>
        </p:nvSpPr>
        <p:spPr>
          <a:xfrm>
            <a:off x="5940360" y="36450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>
            <a:hlinkClick r:id="rId27" action="ppaction://hlinksldjump"/>
          </p:cNvPr>
          <p:cNvSpPr/>
          <p:nvPr/>
        </p:nvSpPr>
        <p:spPr>
          <a:xfrm>
            <a:off x="7164360" y="357336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>
            <a:hlinkClick r:id="rId28" action="ppaction://hlinksldjump"/>
          </p:cNvPr>
          <p:cNvSpPr/>
          <p:nvPr/>
        </p:nvSpPr>
        <p:spPr>
          <a:xfrm>
            <a:off x="8388360" y="3645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>
            <a:hlinkClick r:id="rId29" action="ppaction://hlinksldjump"/>
          </p:cNvPr>
          <p:cNvSpPr/>
          <p:nvPr/>
        </p:nvSpPr>
        <p:spPr>
          <a:xfrm>
            <a:off x="3564000" y="479736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>
            <a:hlinkClick r:id="rId30" action="ppaction://hlinksldjump"/>
          </p:cNvPr>
          <p:cNvSpPr/>
          <p:nvPr/>
        </p:nvSpPr>
        <p:spPr>
          <a:xfrm>
            <a:off x="4716360" y="4869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>
            <a:hlinkClick r:id="rId31" action="ppaction://hlinksldjump"/>
          </p:cNvPr>
          <p:cNvSpPr/>
          <p:nvPr/>
        </p:nvSpPr>
        <p:spPr>
          <a:xfrm>
            <a:off x="5940360" y="4869000"/>
            <a:ext cx="432000" cy="4330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080"/>
              <a:gd name="textAreaBottom" fmla="*/ 405360 h 43308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>
            <a:hlinkClick r:id="rId32" action="ppaction://hlinksldjump"/>
          </p:cNvPr>
          <p:cNvSpPr/>
          <p:nvPr/>
        </p:nvSpPr>
        <p:spPr>
          <a:xfrm>
            <a:off x="7236000" y="4869000"/>
            <a:ext cx="360360" cy="4330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3080"/>
              <a:gd name="textAreaBottom" fmla="*/ 410040 h 433080"/>
            </a:gdLst>
            <a:ahLst/>
            <a:rect l="textAreaLeft" t="textAreaTop" r="textAreaRight" b="textAreaBottom"/>
            <a:pathLst>
              <a:path w="21600" h="25954">
                <a:moveTo>
                  <a:pt x="0" y="0"/>
                </a:moveTo>
                <a:lnTo>
                  <a:pt x="21600" y="0"/>
                </a:lnTo>
                <a:lnTo>
                  <a:pt x="21600" y="25954"/>
                </a:lnTo>
                <a:lnTo>
                  <a:pt x="0" y="25954"/>
                </a:lnTo>
                <a:close/>
              </a:path>
              <a:path fill="lightenLess" w="21600" h="25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4">
                <a:moveTo>
                  <a:pt x="21600" y="0"/>
                </a:moveTo>
                <a:lnTo>
                  <a:pt x="21600" y="25954"/>
                </a:lnTo>
                <a:lnTo>
                  <a:pt x="20200" y="24555"/>
                </a:lnTo>
                <a:lnTo>
                  <a:pt x="20200" y="1400"/>
                </a:lnTo>
                <a:close/>
              </a:path>
              <a:path fill="darkenLess" w="21600" h="25954">
                <a:moveTo>
                  <a:pt x="21600" y="25954"/>
                </a:moveTo>
                <a:lnTo>
                  <a:pt x="0" y="25954"/>
                </a:lnTo>
                <a:lnTo>
                  <a:pt x="1400" y="24555"/>
                </a:lnTo>
                <a:lnTo>
                  <a:pt x="20200" y="24555"/>
                </a:lnTo>
                <a:close/>
              </a:path>
              <a:path fill="lighten" w="21600" h="25954">
                <a:moveTo>
                  <a:pt x="0" y="25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>
            <a:hlinkClick r:id="rId33" action="ppaction://hlinksldjump"/>
          </p:cNvPr>
          <p:cNvSpPr/>
          <p:nvPr/>
        </p:nvSpPr>
        <p:spPr>
          <a:xfrm>
            <a:off x="8244000" y="4869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>
            <a:hlinkClick r:id="rId34" action="ppaction://hlinksldjump"/>
          </p:cNvPr>
          <p:cNvSpPr/>
          <p:nvPr/>
        </p:nvSpPr>
        <p:spPr>
          <a:xfrm>
            <a:off x="3492360" y="5950080"/>
            <a:ext cx="503280" cy="433080"/>
          </a:xfrm>
          <a:custGeom>
            <a:avLst/>
            <a:gdLst>
              <a:gd name="textAreaLeft" fmla="*/ 28080 w 503280"/>
              <a:gd name="textAreaRight" fmla="*/ 475200 w 50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098" h="21600">
                <a:moveTo>
                  <a:pt x="0" y="0"/>
                </a:moveTo>
                <a:lnTo>
                  <a:pt x="25098" y="0"/>
                </a:lnTo>
                <a:lnTo>
                  <a:pt x="25098" y="21600"/>
                </a:lnTo>
                <a:lnTo>
                  <a:pt x="0" y="21600"/>
                </a:lnTo>
                <a:close/>
              </a:path>
              <a:path fill="lightenLess" w="25098" h="21600">
                <a:moveTo>
                  <a:pt x="0" y="0"/>
                </a:moveTo>
                <a:lnTo>
                  <a:pt x="25098" y="0"/>
                </a:lnTo>
                <a:lnTo>
                  <a:pt x="23698" y="1400"/>
                </a:lnTo>
                <a:lnTo>
                  <a:pt x="1400" y="1400"/>
                </a:lnTo>
                <a:close/>
              </a:path>
              <a:path fill="darken" w="25098" h="21600">
                <a:moveTo>
                  <a:pt x="25098" y="0"/>
                </a:moveTo>
                <a:lnTo>
                  <a:pt x="25098" y="21600"/>
                </a:lnTo>
                <a:lnTo>
                  <a:pt x="23698" y="20200"/>
                </a:lnTo>
                <a:lnTo>
                  <a:pt x="23698" y="1400"/>
                </a:lnTo>
                <a:close/>
              </a:path>
              <a:path fill="darkenLess" w="25098" h="21600">
                <a:moveTo>
                  <a:pt x="25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98" y="20200"/>
                </a:lnTo>
                <a:close/>
              </a:path>
              <a:path fill="lighten" w="25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>
            <a:hlinkClick r:id="rId35" action="ppaction://hlinksldjump"/>
          </p:cNvPr>
          <p:cNvSpPr/>
          <p:nvPr/>
        </p:nvSpPr>
        <p:spPr>
          <a:xfrm>
            <a:off x="4788000" y="602136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>
            <a:hlinkClick r:id="rId36" action="ppaction://hlinksldjump"/>
          </p:cNvPr>
          <p:cNvSpPr/>
          <p:nvPr/>
        </p:nvSpPr>
        <p:spPr>
          <a:xfrm>
            <a:off x="6012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>
            <a:hlinkClick r:id="rId37" action="ppaction://hlinksldjump"/>
          </p:cNvPr>
          <p:cNvSpPr/>
          <p:nvPr/>
        </p:nvSpPr>
        <p:spPr>
          <a:xfrm>
            <a:off x="716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>
            <a:hlinkClick r:id="rId38" action="ppaction://hlinksldjump"/>
          </p:cNvPr>
          <p:cNvSpPr/>
          <p:nvPr/>
        </p:nvSpPr>
        <p:spPr>
          <a:xfrm>
            <a:off x="8317080" y="587700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lastslide"/>
          </p:cNvPr>
          <p:cNvSpPr/>
          <p:nvPr/>
        </p:nvSpPr>
        <p:spPr>
          <a:xfrm>
            <a:off x="324000" y="55166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узыкальная капель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2" name="Music"/>
          <p:cNvSpPr/>
          <p:nvPr/>
        </p:nvSpPr>
        <p:spPr>
          <a:xfrm rot="20354400">
            <a:off x="3387600" y="2749680"/>
            <a:ext cx="1981440" cy="199044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>
            <a:hlinkClick r:id="rId2" action="ppaction://hlinksldjump"/>
          </p:cNvPr>
          <p:cNvSpPr/>
          <p:nvPr/>
        </p:nvSpPr>
        <p:spPr>
          <a:xfrm>
            <a:off x="7812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6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узыкальная капель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ы великие талан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Но понятны и прос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ы певцы и музыканты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Акробаты и шут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Music"/>
          <p:cNvSpPr/>
          <p:nvPr/>
        </p:nvSpPr>
        <p:spPr>
          <a:xfrm rot="20354400">
            <a:off x="610920" y="549000"/>
            <a:ext cx="1081080" cy="100800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Музыкальная капель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9" name="Music"/>
          <p:cNvSpPr/>
          <p:nvPr/>
        </p:nvSpPr>
        <p:spPr>
          <a:xfrm rot="20354400">
            <a:off x="3581280" y="2895480"/>
            <a:ext cx="2122560" cy="2227320"/>
          </a:xfrm>
          <a:prstGeom prst="pi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>
            <a:hlinkClick r:id="rId2" action="ppaction://hlinksldjump"/>
          </p:cNvPr>
          <p:cNvSpPr/>
          <p:nvPr/>
        </p:nvSpPr>
        <p:spPr>
          <a:xfrm>
            <a:off x="7885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ИСТОРИЯ  МАТЕМАТИКИ</a:t>
            </a:r>
            <a:br>
              <a:rPr sz="32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зовите древний геометрический инструмент, который, по утверждению римского поэта Овидия 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в.), был изобретён в Древней Гре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>
            <a:hlinkClick r:id="rId1" action="ppaction://hlinksldjump"/>
          </p:cNvPr>
          <p:cNvSpPr/>
          <p:nvPr/>
        </p:nvSpPr>
        <p:spPr>
          <a:xfrm>
            <a:off x="781200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ИСТОРИЯ  МАТЕМАТИКИ</a:t>
            </a:r>
            <a:br>
              <a:rPr sz="32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400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древности такого термина не было. Его ввёл в 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I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ке французский математик Франсуа Виет. В переводе с латинского он означает «спица в колесе». Что это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>
            <a:hlinkClick r:id="rId1" action="ppaction://hlinksldjump"/>
          </p:cNvPr>
          <p:cNvSpPr/>
          <p:nvPr/>
        </p:nvSpPr>
        <p:spPr>
          <a:xfrm>
            <a:off x="781200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ИСТОРИЯ  МАТЕМАТИКИ</a:t>
            </a:r>
            <a:br>
              <a:rPr sz="32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ы, в отличие от египтян, римлян и славян пользуемся позиционной системой, в которой всего десять цифр, - «ступеньки». Что это за «ступеньки», перечислите 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>
            <a:hlinkClick r:id="rId1" action="ppaction://hlinksldjump"/>
          </p:cNvPr>
          <p:cNvSpPr/>
          <p:nvPr/>
        </p:nvSpPr>
        <p:spPr>
          <a:xfrm>
            <a:off x="781200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ИСТОРИЯ  МАТЕМАТИКИ</a:t>
            </a:r>
            <a:br>
              <a:rPr sz="32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дийцы называли его «судья», арабские математики «сифр». Как мы называем его сейча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>
            <a:hlinkClick r:id="rId1" action="ppaction://hlinksldjump"/>
          </p:cNvPr>
          <p:cNvSpPr/>
          <p:nvPr/>
        </p:nvSpPr>
        <p:spPr>
          <a:xfrm>
            <a:off x="788508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ИСТОРИЯ  МАТЕМАТИКИ</a:t>
            </a:r>
            <a:br>
              <a:rPr sz="3200"/>
            </a:b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нно этот учебник был в России энциклопедией математических знаний. По нему учился М.В. Ломоносов, называвший его «вратами учёности». Именно в нем впервые на русском языке введены понятия «частное», «произведение», «делитель». Назовите учебник и его ав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116000" y="1773360"/>
            <a:ext cx="6629400" cy="4464000"/>
            <a:chOff x="1116000" y="1773360"/>
            <a:chExt cx="6629400" cy="4464000"/>
          </a:xfrm>
        </p:grpSpPr>
        <p:sp>
          <p:nvSpPr>
            <p:cNvPr id="708" name=""/>
            <p:cNvSpPr txBox="1"/>
            <p:nvPr/>
          </p:nvSpPr>
          <p:spPr>
            <a:xfrm>
              <a:off x="1116000" y="1773360"/>
              <a:ext cx="6629400" cy="446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plant"/>
            <p:cNvSpPr/>
            <p:nvPr/>
          </p:nvSpPr>
          <p:spPr>
            <a:xfrm>
              <a:off x="3005280" y="1857960"/>
              <a:ext cx="2946240" cy="2896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54600" y="2921400"/>
              <a:ext cx="1133280" cy="947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plant"/>
            <p:cNvSpPr/>
            <p:nvPr/>
          </p:nvSpPr>
          <p:spPr>
            <a:xfrm rot="16032000">
              <a:off x="3879000" y="3908160"/>
              <a:ext cx="1127160" cy="33274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58680" y="1985040"/>
              <a:ext cx="415800" cy="1076760"/>
            </a:xfrm>
            <a:custGeom>
              <a:avLst/>
              <a:gdLst/>
              <a:ahLst/>
              <a:rect l="l" t="t" r="r" b="b"/>
              <a:pathLst>
                <a:path w="655" h="1507">
                  <a:moveTo>
                    <a:pt x="496" y="1428"/>
                  </a:moveTo>
                  <a:cubicBezTo>
                    <a:pt x="575" y="1349"/>
                    <a:pt x="655" y="1012"/>
                    <a:pt x="615" y="833"/>
                  </a:cubicBezTo>
                  <a:cubicBezTo>
                    <a:pt x="575" y="654"/>
                    <a:pt x="317" y="496"/>
                    <a:pt x="258" y="357"/>
                  </a:cubicBezTo>
                  <a:cubicBezTo>
                    <a:pt x="199" y="218"/>
                    <a:pt x="278" y="0"/>
                    <a:pt x="258" y="0"/>
                  </a:cubicBezTo>
                  <a:cubicBezTo>
                    <a:pt x="238" y="0"/>
                    <a:pt x="179" y="238"/>
                    <a:pt x="139" y="357"/>
                  </a:cubicBezTo>
                  <a:cubicBezTo>
                    <a:pt x="99" y="476"/>
                    <a:pt x="0" y="615"/>
                    <a:pt x="20" y="714"/>
                  </a:cubicBezTo>
                  <a:cubicBezTo>
                    <a:pt x="40" y="813"/>
                    <a:pt x="218" y="853"/>
                    <a:pt x="258" y="952"/>
                  </a:cubicBezTo>
                  <a:cubicBezTo>
                    <a:pt x="298" y="1051"/>
                    <a:pt x="278" y="1249"/>
                    <a:pt x="258" y="1309"/>
                  </a:cubicBezTo>
                  <a:cubicBezTo>
                    <a:pt x="238" y="1369"/>
                    <a:pt x="99" y="1289"/>
                    <a:pt x="139" y="1309"/>
                  </a:cubicBezTo>
                  <a:cubicBezTo>
                    <a:pt x="179" y="1329"/>
                    <a:pt x="417" y="1507"/>
                    <a:pt x="496" y="1428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23000" y="2324880"/>
              <a:ext cx="1057680" cy="723240"/>
            </a:xfrm>
            <a:custGeom>
              <a:avLst/>
              <a:gdLst/>
              <a:ahLst/>
              <a:rect l="l" t="t" r="r" b="b"/>
              <a:pathLst>
                <a:path w="1666" h="1012">
                  <a:moveTo>
                    <a:pt x="1468" y="972"/>
                  </a:moveTo>
                  <a:cubicBezTo>
                    <a:pt x="1448" y="882"/>
                    <a:pt x="1428" y="793"/>
                    <a:pt x="1349" y="734"/>
                  </a:cubicBezTo>
                  <a:cubicBezTo>
                    <a:pt x="1270" y="675"/>
                    <a:pt x="1151" y="655"/>
                    <a:pt x="992" y="615"/>
                  </a:cubicBezTo>
                  <a:cubicBezTo>
                    <a:pt x="833" y="575"/>
                    <a:pt x="536" y="536"/>
                    <a:pt x="397" y="496"/>
                  </a:cubicBezTo>
                  <a:cubicBezTo>
                    <a:pt x="258" y="456"/>
                    <a:pt x="218" y="436"/>
                    <a:pt x="159" y="377"/>
                  </a:cubicBezTo>
                  <a:cubicBezTo>
                    <a:pt x="100" y="318"/>
                    <a:pt x="60" y="199"/>
                    <a:pt x="40" y="139"/>
                  </a:cubicBezTo>
                  <a:cubicBezTo>
                    <a:pt x="20" y="79"/>
                    <a:pt x="0" y="0"/>
                    <a:pt x="40" y="20"/>
                  </a:cubicBezTo>
                  <a:cubicBezTo>
                    <a:pt x="80" y="40"/>
                    <a:pt x="179" y="218"/>
                    <a:pt x="278" y="258"/>
                  </a:cubicBezTo>
                  <a:cubicBezTo>
                    <a:pt x="377" y="298"/>
                    <a:pt x="496" y="238"/>
                    <a:pt x="635" y="258"/>
                  </a:cubicBezTo>
                  <a:cubicBezTo>
                    <a:pt x="774" y="278"/>
                    <a:pt x="953" y="318"/>
                    <a:pt x="1111" y="377"/>
                  </a:cubicBezTo>
                  <a:cubicBezTo>
                    <a:pt x="1269" y="436"/>
                    <a:pt x="1508" y="516"/>
                    <a:pt x="1587" y="615"/>
                  </a:cubicBezTo>
                  <a:cubicBezTo>
                    <a:pt x="1666" y="714"/>
                    <a:pt x="1627" y="932"/>
                    <a:pt x="1587" y="972"/>
                  </a:cubicBezTo>
                  <a:cubicBezTo>
                    <a:pt x="1547" y="1012"/>
                    <a:pt x="1389" y="873"/>
                    <a:pt x="1349" y="853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72160" y="3346920"/>
              <a:ext cx="995040" cy="354240"/>
            </a:xfrm>
            <a:custGeom>
              <a:avLst/>
              <a:gdLst/>
              <a:ahLst/>
              <a:rect l="l" t="t" r="r" b="b"/>
              <a:pathLst>
                <a:path w="1567" h="496">
                  <a:moveTo>
                    <a:pt x="1488" y="238"/>
                  </a:moveTo>
                  <a:cubicBezTo>
                    <a:pt x="1468" y="278"/>
                    <a:pt x="1428" y="198"/>
                    <a:pt x="1369" y="238"/>
                  </a:cubicBezTo>
                  <a:cubicBezTo>
                    <a:pt x="1310" y="278"/>
                    <a:pt x="1349" y="456"/>
                    <a:pt x="1131" y="476"/>
                  </a:cubicBezTo>
                  <a:cubicBezTo>
                    <a:pt x="913" y="496"/>
                    <a:pt x="120" y="377"/>
                    <a:pt x="60" y="357"/>
                  </a:cubicBezTo>
                  <a:cubicBezTo>
                    <a:pt x="0" y="337"/>
                    <a:pt x="615" y="377"/>
                    <a:pt x="774" y="357"/>
                  </a:cubicBezTo>
                  <a:cubicBezTo>
                    <a:pt x="933" y="337"/>
                    <a:pt x="893" y="297"/>
                    <a:pt x="1012" y="238"/>
                  </a:cubicBezTo>
                  <a:cubicBezTo>
                    <a:pt x="1131" y="179"/>
                    <a:pt x="1409" y="0"/>
                    <a:pt x="1488" y="0"/>
                  </a:cubicBezTo>
                  <a:cubicBezTo>
                    <a:pt x="1567" y="0"/>
                    <a:pt x="1508" y="198"/>
                    <a:pt x="1488" y="238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79000" y="3688200"/>
              <a:ext cx="325800" cy="695160"/>
            </a:xfrm>
            <a:custGeom>
              <a:avLst/>
              <a:gdLst/>
              <a:ahLst/>
              <a:rect l="l" t="t" r="r" b="b"/>
              <a:pathLst>
                <a:path w="516" h="972">
                  <a:moveTo>
                    <a:pt x="496" y="238"/>
                  </a:moveTo>
                  <a:cubicBezTo>
                    <a:pt x="496" y="268"/>
                    <a:pt x="496" y="298"/>
                    <a:pt x="496" y="357"/>
                  </a:cubicBezTo>
                  <a:cubicBezTo>
                    <a:pt x="496" y="416"/>
                    <a:pt x="516" y="535"/>
                    <a:pt x="496" y="595"/>
                  </a:cubicBezTo>
                  <a:cubicBezTo>
                    <a:pt x="476" y="655"/>
                    <a:pt x="437" y="694"/>
                    <a:pt x="377" y="714"/>
                  </a:cubicBezTo>
                  <a:cubicBezTo>
                    <a:pt x="317" y="734"/>
                    <a:pt x="198" y="674"/>
                    <a:pt x="139" y="714"/>
                  </a:cubicBezTo>
                  <a:cubicBezTo>
                    <a:pt x="80" y="754"/>
                    <a:pt x="40" y="932"/>
                    <a:pt x="20" y="952"/>
                  </a:cubicBezTo>
                  <a:cubicBezTo>
                    <a:pt x="0" y="972"/>
                    <a:pt x="20" y="892"/>
                    <a:pt x="20" y="833"/>
                  </a:cubicBezTo>
                  <a:cubicBezTo>
                    <a:pt x="20" y="774"/>
                    <a:pt x="0" y="655"/>
                    <a:pt x="20" y="595"/>
                  </a:cubicBezTo>
                  <a:cubicBezTo>
                    <a:pt x="40" y="535"/>
                    <a:pt x="119" y="516"/>
                    <a:pt x="139" y="476"/>
                  </a:cubicBezTo>
                  <a:cubicBezTo>
                    <a:pt x="159" y="436"/>
                    <a:pt x="159" y="397"/>
                    <a:pt x="139" y="357"/>
                  </a:cubicBezTo>
                  <a:cubicBezTo>
                    <a:pt x="119" y="317"/>
                    <a:pt x="20" y="297"/>
                    <a:pt x="20" y="238"/>
                  </a:cubicBezTo>
                  <a:cubicBezTo>
                    <a:pt x="20" y="179"/>
                    <a:pt x="119" y="40"/>
                    <a:pt x="139" y="0"/>
                  </a:cubicBezTo>
                </a:path>
              </a:pathLst>
            </a:custGeom>
            <a:solidFill>
              <a:srgbClr val="ccffff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1880" y="3857760"/>
              <a:ext cx="641520" cy="1163160"/>
            </a:xfrm>
            <a:custGeom>
              <a:avLst/>
              <a:gdLst/>
              <a:ahLst/>
              <a:rect l="l" t="t" r="r" b="b"/>
              <a:pathLst>
                <a:path w="1011" h="1626">
                  <a:moveTo>
                    <a:pt x="674" y="119"/>
                  </a:moveTo>
                  <a:cubicBezTo>
                    <a:pt x="753" y="218"/>
                    <a:pt x="1011" y="476"/>
                    <a:pt x="912" y="714"/>
                  </a:cubicBezTo>
                  <a:cubicBezTo>
                    <a:pt x="813" y="952"/>
                    <a:pt x="158" y="1468"/>
                    <a:pt x="79" y="1547"/>
                  </a:cubicBezTo>
                  <a:cubicBezTo>
                    <a:pt x="0" y="1626"/>
                    <a:pt x="317" y="1309"/>
                    <a:pt x="436" y="1190"/>
                  </a:cubicBezTo>
                  <a:cubicBezTo>
                    <a:pt x="555" y="1071"/>
                    <a:pt x="793" y="1011"/>
                    <a:pt x="793" y="833"/>
                  </a:cubicBezTo>
                  <a:cubicBezTo>
                    <a:pt x="793" y="655"/>
                    <a:pt x="456" y="238"/>
                    <a:pt x="436" y="119"/>
                  </a:cubicBezTo>
                  <a:cubicBezTo>
                    <a:pt x="416" y="0"/>
                    <a:pt x="595" y="20"/>
                    <a:pt x="674" y="119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12640" y="3688200"/>
              <a:ext cx="767880" cy="639360"/>
            </a:xfrm>
            <a:custGeom>
              <a:avLst/>
              <a:gdLst/>
              <a:ahLst/>
              <a:rect l="l" t="t" r="r" b="b"/>
              <a:pathLst>
                <a:path w="1210" h="893">
                  <a:moveTo>
                    <a:pt x="1210" y="853"/>
                  </a:moveTo>
                  <a:cubicBezTo>
                    <a:pt x="1170" y="863"/>
                    <a:pt x="1131" y="873"/>
                    <a:pt x="1091" y="853"/>
                  </a:cubicBezTo>
                  <a:cubicBezTo>
                    <a:pt x="1051" y="833"/>
                    <a:pt x="992" y="794"/>
                    <a:pt x="972" y="734"/>
                  </a:cubicBezTo>
                  <a:cubicBezTo>
                    <a:pt x="952" y="674"/>
                    <a:pt x="1012" y="555"/>
                    <a:pt x="972" y="496"/>
                  </a:cubicBezTo>
                  <a:cubicBezTo>
                    <a:pt x="932" y="437"/>
                    <a:pt x="793" y="417"/>
                    <a:pt x="734" y="377"/>
                  </a:cubicBezTo>
                  <a:cubicBezTo>
                    <a:pt x="675" y="337"/>
                    <a:pt x="655" y="278"/>
                    <a:pt x="615" y="258"/>
                  </a:cubicBezTo>
                  <a:cubicBezTo>
                    <a:pt x="575" y="238"/>
                    <a:pt x="516" y="278"/>
                    <a:pt x="496" y="258"/>
                  </a:cubicBezTo>
                  <a:cubicBezTo>
                    <a:pt x="476" y="238"/>
                    <a:pt x="555" y="179"/>
                    <a:pt x="496" y="139"/>
                  </a:cubicBezTo>
                  <a:cubicBezTo>
                    <a:pt x="437" y="99"/>
                    <a:pt x="218" y="40"/>
                    <a:pt x="139" y="20"/>
                  </a:cubicBezTo>
                  <a:cubicBezTo>
                    <a:pt x="60" y="0"/>
                    <a:pt x="40" y="0"/>
                    <a:pt x="20" y="20"/>
                  </a:cubicBezTo>
                  <a:cubicBezTo>
                    <a:pt x="0" y="40"/>
                    <a:pt x="0" y="119"/>
                    <a:pt x="20" y="139"/>
                  </a:cubicBezTo>
                  <a:cubicBezTo>
                    <a:pt x="40" y="159"/>
                    <a:pt x="80" y="99"/>
                    <a:pt x="139" y="139"/>
                  </a:cubicBezTo>
                  <a:cubicBezTo>
                    <a:pt x="198" y="179"/>
                    <a:pt x="318" y="298"/>
                    <a:pt x="377" y="377"/>
                  </a:cubicBezTo>
                  <a:cubicBezTo>
                    <a:pt x="436" y="456"/>
                    <a:pt x="456" y="536"/>
                    <a:pt x="496" y="615"/>
                  </a:cubicBezTo>
                  <a:cubicBezTo>
                    <a:pt x="536" y="694"/>
                    <a:pt x="556" y="813"/>
                    <a:pt x="615" y="853"/>
                  </a:cubicBezTo>
                  <a:cubicBezTo>
                    <a:pt x="674" y="893"/>
                    <a:pt x="774" y="853"/>
                    <a:pt x="853" y="853"/>
                  </a:cubicBezTo>
                  <a:cubicBezTo>
                    <a:pt x="932" y="853"/>
                    <a:pt x="1051" y="853"/>
                    <a:pt x="1091" y="853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87880" y="3007080"/>
              <a:ext cx="604800" cy="183600"/>
            </a:xfrm>
            <a:custGeom>
              <a:avLst/>
              <a:gdLst/>
              <a:ahLst/>
              <a:rect l="l" t="t" r="r" b="b"/>
              <a:pathLst>
                <a:path w="952" h="258">
                  <a:moveTo>
                    <a:pt x="0" y="258"/>
                  </a:moveTo>
                  <a:cubicBezTo>
                    <a:pt x="39" y="218"/>
                    <a:pt x="79" y="179"/>
                    <a:pt x="119" y="139"/>
                  </a:cubicBezTo>
                  <a:cubicBezTo>
                    <a:pt x="159" y="99"/>
                    <a:pt x="198" y="40"/>
                    <a:pt x="238" y="20"/>
                  </a:cubicBezTo>
                  <a:cubicBezTo>
                    <a:pt x="278" y="0"/>
                    <a:pt x="298" y="20"/>
                    <a:pt x="357" y="20"/>
                  </a:cubicBezTo>
                  <a:cubicBezTo>
                    <a:pt x="416" y="20"/>
                    <a:pt x="516" y="20"/>
                    <a:pt x="595" y="20"/>
                  </a:cubicBezTo>
                  <a:cubicBezTo>
                    <a:pt x="674" y="20"/>
                    <a:pt x="793" y="0"/>
                    <a:pt x="833" y="20"/>
                  </a:cubicBezTo>
                  <a:cubicBezTo>
                    <a:pt x="873" y="40"/>
                    <a:pt x="813" y="119"/>
                    <a:pt x="833" y="139"/>
                  </a:cubicBezTo>
                  <a:cubicBezTo>
                    <a:pt x="853" y="159"/>
                    <a:pt x="952" y="139"/>
                    <a:pt x="952" y="139"/>
                  </a:cubicBezTo>
                  <a:cubicBezTo>
                    <a:pt x="952" y="139"/>
                    <a:pt x="892" y="139"/>
                    <a:pt x="833" y="139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8680" y="4283280"/>
              <a:ext cx="101160" cy="185760"/>
            </a:xfrm>
            <a:custGeom>
              <a:avLst/>
              <a:gdLst/>
              <a:ahLst/>
              <a:rect l="l" t="t" r="r" b="b"/>
              <a:pathLst>
                <a:path w="159" h="258">
                  <a:moveTo>
                    <a:pt x="20" y="0"/>
                  </a:moveTo>
                  <a:cubicBezTo>
                    <a:pt x="69" y="39"/>
                    <a:pt x="119" y="79"/>
                    <a:pt x="139" y="119"/>
                  </a:cubicBezTo>
                  <a:cubicBezTo>
                    <a:pt x="159" y="159"/>
                    <a:pt x="159" y="218"/>
                    <a:pt x="139" y="238"/>
                  </a:cubicBezTo>
                  <a:cubicBezTo>
                    <a:pt x="119" y="258"/>
                    <a:pt x="40" y="258"/>
                    <a:pt x="20" y="238"/>
                  </a:cubicBezTo>
                  <a:cubicBezTo>
                    <a:pt x="0" y="218"/>
                    <a:pt x="0" y="159"/>
                    <a:pt x="20" y="119"/>
                  </a:cubicBezTo>
                  <a:cubicBezTo>
                    <a:pt x="40" y="79"/>
                    <a:pt x="119" y="20"/>
                    <a:pt x="139" y="0"/>
                  </a:cubicBez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58680" y="3262320"/>
              <a:ext cx="403200" cy="197280"/>
            </a:xfrm>
            <a:custGeom>
              <a:avLst/>
              <a:gdLst/>
              <a:ahLst/>
              <a:rect l="l" t="t" r="r" b="b"/>
              <a:pathLst>
                <a:path w="635" h="278">
                  <a:moveTo>
                    <a:pt x="139" y="139"/>
                  </a:moveTo>
                  <a:cubicBezTo>
                    <a:pt x="178" y="89"/>
                    <a:pt x="218" y="40"/>
                    <a:pt x="258" y="20"/>
                  </a:cubicBezTo>
                  <a:cubicBezTo>
                    <a:pt x="298" y="0"/>
                    <a:pt x="337" y="0"/>
                    <a:pt x="377" y="20"/>
                  </a:cubicBezTo>
                  <a:cubicBezTo>
                    <a:pt x="417" y="40"/>
                    <a:pt x="456" y="99"/>
                    <a:pt x="496" y="139"/>
                  </a:cubicBezTo>
                  <a:cubicBezTo>
                    <a:pt x="536" y="179"/>
                    <a:pt x="635" y="238"/>
                    <a:pt x="615" y="258"/>
                  </a:cubicBezTo>
                  <a:cubicBezTo>
                    <a:pt x="595" y="278"/>
                    <a:pt x="476" y="278"/>
                    <a:pt x="377" y="258"/>
                  </a:cubicBezTo>
                  <a:cubicBezTo>
                    <a:pt x="278" y="238"/>
                    <a:pt x="40" y="179"/>
                    <a:pt x="20" y="139"/>
                  </a:cubicBezTo>
                  <a:cubicBezTo>
                    <a:pt x="0" y="99"/>
                    <a:pt x="129" y="59"/>
                    <a:pt x="258" y="20"/>
                  </a:cubicBezTo>
                </a:path>
              </a:pathLst>
            </a:custGeom>
            <a:solidFill>
              <a:srgbClr val="fdfdf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33920" y="3262320"/>
              <a:ext cx="227520" cy="198360"/>
            </a:xfrm>
            <a:custGeom>
              <a:avLst/>
              <a:gdLst/>
              <a:ahLst/>
              <a:rect l="l" t="t" r="r" b="b"/>
              <a:pathLst>
                <a:path w="357" h="278">
                  <a:moveTo>
                    <a:pt x="119" y="20"/>
                  </a:moveTo>
                  <a:cubicBezTo>
                    <a:pt x="79" y="40"/>
                    <a:pt x="0" y="99"/>
                    <a:pt x="0" y="139"/>
                  </a:cubicBezTo>
                  <a:cubicBezTo>
                    <a:pt x="0" y="179"/>
                    <a:pt x="79" y="238"/>
                    <a:pt x="119" y="258"/>
                  </a:cubicBezTo>
                  <a:cubicBezTo>
                    <a:pt x="159" y="278"/>
                    <a:pt x="198" y="278"/>
                    <a:pt x="238" y="258"/>
                  </a:cubicBezTo>
                  <a:cubicBezTo>
                    <a:pt x="278" y="238"/>
                    <a:pt x="357" y="179"/>
                    <a:pt x="357" y="139"/>
                  </a:cubicBezTo>
                  <a:cubicBezTo>
                    <a:pt x="357" y="99"/>
                    <a:pt x="278" y="40"/>
                    <a:pt x="238" y="20"/>
                  </a:cubicBezTo>
                  <a:cubicBezTo>
                    <a:pt x="198" y="0"/>
                    <a:pt x="159" y="0"/>
                    <a:pt x="119" y="20"/>
                  </a:cubicBez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09520" y="3262320"/>
              <a:ext cx="102240" cy="11340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9" y="20"/>
                  </a:moveTo>
                  <a:cubicBezTo>
                    <a:pt x="119" y="0"/>
                    <a:pt x="40" y="0"/>
                    <a:pt x="20" y="20"/>
                  </a:cubicBezTo>
                  <a:cubicBezTo>
                    <a:pt x="0" y="40"/>
                    <a:pt x="0" y="119"/>
                    <a:pt x="20" y="139"/>
                  </a:cubicBezTo>
                  <a:cubicBezTo>
                    <a:pt x="40" y="159"/>
                    <a:pt x="119" y="159"/>
                    <a:pt x="139" y="139"/>
                  </a:cubicBezTo>
                  <a:cubicBezTo>
                    <a:pt x="159" y="119"/>
                    <a:pt x="159" y="40"/>
                    <a:pt x="139" y="2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0200" y="3176640"/>
              <a:ext cx="415080" cy="213840"/>
            </a:xfrm>
            <a:custGeom>
              <a:avLst/>
              <a:gdLst/>
              <a:ahLst/>
              <a:rect l="l" t="t" r="r" b="b"/>
              <a:pathLst>
                <a:path w="655" h="298">
                  <a:moveTo>
                    <a:pt x="635" y="258"/>
                  </a:moveTo>
                  <a:cubicBezTo>
                    <a:pt x="655" y="298"/>
                    <a:pt x="575" y="258"/>
                    <a:pt x="516" y="258"/>
                  </a:cubicBezTo>
                  <a:cubicBezTo>
                    <a:pt x="457" y="258"/>
                    <a:pt x="337" y="258"/>
                    <a:pt x="278" y="258"/>
                  </a:cubicBezTo>
                  <a:cubicBezTo>
                    <a:pt x="219" y="258"/>
                    <a:pt x="199" y="278"/>
                    <a:pt x="159" y="258"/>
                  </a:cubicBezTo>
                  <a:cubicBezTo>
                    <a:pt x="119" y="238"/>
                    <a:pt x="0" y="179"/>
                    <a:pt x="40" y="139"/>
                  </a:cubicBezTo>
                  <a:cubicBezTo>
                    <a:pt x="80" y="99"/>
                    <a:pt x="298" y="0"/>
                    <a:pt x="397" y="20"/>
                  </a:cubicBezTo>
                  <a:cubicBezTo>
                    <a:pt x="496" y="40"/>
                    <a:pt x="615" y="218"/>
                    <a:pt x="635" y="258"/>
                  </a:cubicBezTo>
                  <a:close/>
                </a:path>
              </a:pathLst>
            </a:custGeom>
            <a:solidFill>
              <a:srgbClr val="fdfdf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81040" y="3176640"/>
              <a:ext cx="175680" cy="199080"/>
            </a:xfrm>
            <a:custGeom>
              <a:avLst/>
              <a:gdLst/>
              <a:ahLst/>
              <a:rect l="l" t="t" r="r" b="b"/>
              <a:pathLst>
                <a:path w="278" h="278">
                  <a:moveTo>
                    <a:pt x="258" y="20"/>
                  </a:moveTo>
                  <a:cubicBezTo>
                    <a:pt x="238" y="0"/>
                    <a:pt x="179" y="20"/>
                    <a:pt x="139" y="20"/>
                  </a:cubicBezTo>
                  <a:cubicBezTo>
                    <a:pt x="99" y="20"/>
                    <a:pt x="40" y="0"/>
                    <a:pt x="20" y="20"/>
                  </a:cubicBezTo>
                  <a:cubicBezTo>
                    <a:pt x="0" y="40"/>
                    <a:pt x="0" y="99"/>
                    <a:pt x="20" y="139"/>
                  </a:cubicBezTo>
                  <a:cubicBezTo>
                    <a:pt x="40" y="179"/>
                    <a:pt x="99" y="238"/>
                    <a:pt x="139" y="258"/>
                  </a:cubicBezTo>
                  <a:cubicBezTo>
                    <a:pt x="179" y="278"/>
                    <a:pt x="238" y="278"/>
                    <a:pt x="258" y="258"/>
                  </a:cubicBezTo>
                  <a:cubicBezTo>
                    <a:pt x="278" y="238"/>
                    <a:pt x="258" y="179"/>
                    <a:pt x="258" y="139"/>
                  </a:cubicBezTo>
                  <a:cubicBezTo>
                    <a:pt x="258" y="99"/>
                    <a:pt x="278" y="40"/>
                    <a:pt x="258" y="20"/>
                  </a:cubicBez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56280" y="3176640"/>
              <a:ext cx="101160" cy="1155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39" y="20"/>
                  </a:moveTo>
                  <a:cubicBezTo>
                    <a:pt x="119" y="0"/>
                    <a:pt x="40" y="0"/>
                    <a:pt x="20" y="20"/>
                  </a:cubicBezTo>
                  <a:cubicBezTo>
                    <a:pt x="0" y="40"/>
                    <a:pt x="0" y="119"/>
                    <a:pt x="20" y="139"/>
                  </a:cubicBezTo>
                  <a:cubicBezTo>
                    <a:pt x="40" y="159"/>
                    <a:pt x="119" y="159"/>
                    <a:pt x="139" y="139"/>
                  </a:cubicBezTo>
                  <a:cubicBezTo>
                    <a:pt x="159" y="119"/>
                    <a:pt x="159" y="40"/>
                    <a:pt x="139" y="2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07480" y="3431880"/>
              <a:ext cx="88920" cy="113400"/>
            </a:xfrm>
            <a:custGeom>
              <a:avLst/>
              <a:gdLst/>
              <a:ahLst/>
              <a:rect l="l" t="t" r="r" b="b"/>
              <a:pathLst>
                <a:path w="139" h="159">
                  <a:moveTo>
                    <a:pt x="139" y="20"/>
                  </a:moveTo>
                  <a:cubicBezTo>
                    <a:pt x="89" y="10"/>
                    <a:pt x="40" y="0"/>
                    <a:pt x="20" y="20"/>
                  </a:cubicBezTo>
                  <a:cubicBezTo>
                    <a:pt x="0" y="40"/>
                    <a:pt x="0" y="119"/>
                    <a:pt x="20" y="139"/>
                  </a:cubicBezTo>
                  <a:cubicBezTo>
                    <a:pt x="40" y="159"/>
                    <a:pt x="119" y="139"/>
                    <a:pt x="139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31880" y="3602520"/>
              <a:ext cx="377280" cy="113400"/>
            </a:xfrm>
            <a:custGeom>
              <a:avLst/>
              <a:gdLst/>
              <a:ahLst/>
              <a:rect l="l" t="t" r="r" b="b"/>
              <a:pathLst>
                <a:path w="595" h="159">
                  <a:moveTo>
                    <a:pt x="0" y="20"/>
                  </a:moveTo>
                  <a:cubicBezTo>
                    <a:pt x="39" y="20"/>
                    <a:pt x="79" y="20"/>
                    <a:pt x="119" y="20"/>
                  </a:cubicBezTo>
                  <a:cubicBezTo>
                    <a:pt x="159" y="20"/>
                    <a:pt x="218" y="0"/>
                    <a:pt x="238" y="20"/>
                  </a:cubicBezTo>
                  <a:cubicBezTo>
                    <a:pt x="258" y="40"/>
                    <a:pt x="218" y="119"/>
                    <a:pt x="238" y="139"/>
                  </a:cubicBezTo>
                  <a:cubicBezTo>
                    <a:pt x="258" y="159"/>
                    <a:pt x="317" y="139"/>
                    <a:pt x="357" y="139"/>
                  </a:cubicBezTo>
                  <a:cubicBezTo>
                    <a:pt x="397" y="139"/>
                    <a:pt x="456" y="159"/>
                    <a:pt x="476" y="139"/>
                  </a:cubicBezTo>
                  <a:cubicBezTo>
                    <a:pt x="496" y="119"/>
                    <a:pt x="456" y="40"/>
                    <a:pt x="476" y="20"/>
                  </a:cubicBezTo>
                  <a:cubicBezTo>
                    <a:pt x="496" y="0"/>
                    <a:pt x="575" y="20"/>
                    <a:pt x="595" y="20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4105440" y="3176640"/>
              <a:ext cx="7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85840" y="3162240"/>
              <a:ext cx="150840" cy="114480"/>
            </a:xfrm>
            <a:custGeom>
              <a:avLst/>
              <a:gdLst/>
              <a:ahLst/>
              <a:rect l="l" t="t" r="r" b="b"/>
              <a:pathLst>
                <a:path w="238" h="159">
                  <a:moveTo>
                    <a:pt x="0" y="20"/>
                  </a:moveTo>
                  <a:cubicBezTo>
                    <a:pt x="49" y="10"/>
                    <a:pt x="99" y="0"/>
                    <a:pt x="119" y="20"/>
                  </a:cubicBezTo>
                  <a:cubicBezTo>
                    <a:pt x="139" y="40"/>
                    <a:pt x="99" y="119"/>
                    <a:pt x="119" y="139"/>
                  </a:cubicBezTo>
                  <a:cubicBezTo>
                    <a:pt x="139" y="159"/>
                    <a:pt x="188" y="149"/>
                    <a:pt x="238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81040" y="3007080"/>
              <a:ext cx="226440" cy="99000"/>
            </a:xfrm>
            <a:custGeom>
              <a:avLst/>
              <a:gdLst/>
              <a:ahLst/>
              <a:rect l="l" t="t" r="r" b="b"/>
              <a:pathLst>
                <a:path w="357" h="139">
                  <a:moveTo>
                    <a:pt x="357" y="119"/>
                  </a:moveTo>
                  <a:cubicBezTo>
                    <a:pt x="317" y="59"/>
                    <a:pt x="278" y="0"/>
                    <a:pt x="238" y="0"/>
                  </a:cubicBezTo>
                  <a:cubicBezTo>
                    <a:pt x="198" y="0"/>
                    <a:pt x="159" y="99"/>
                    <a:pt x="119" y="119"/>
                  </a:cubicBezTo>
                  <a:cubicBezTo>
                    <a:pt x="79" y="139"/>
                    <a:pt x="39" y="129"/>
                    <a:pt x="0" y="1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18920" y="3857760"/>
              <a:ext cx="857160" cy="1887480"/>
            </a:xfrm>
            <a:custGeom>
              <a:avLst/>
              <a:gdLst/>
              <a:ahLst/>
              <a:rect l="l" t="t" r="r" b="b"/>
              <a:pathLst>
                <a:path w="1349" h="2638">
                  <a:moveTo>
                    <a:pt x="1091" y="119"/>
                  </a:moveTo>
                  <a:cubicBezTo>
                    <a:pt x="1220" y="287"/>
                    <a:pt x="1349" y="456"/>
                    <a:pt x="1210" y="833"/>
                  </a:cubicBezTo>
                  <a:cubicBezTo>
                    <a:pt x="1071" y="1210"/>
                    <a:pt x="436" y="2122"/>
                    <a:pt x="258" y="2380"/>
                  </a:cubicBezTo>
                  <a:cubicBezTo>
                    <a:pt x="80" y="2638"/>
                    <a:pt x="0" y="2638"/>
                    <a:pt x="139" y="2380"/>
                  </a:cubicBezTo>
                  <a:cubicBezTo>
                    <a:pt x="278" y="2122"/>
                    <a:pt x="952" y="1230"/>
                    <a:pt x="1091" y="833"/>
                  </a:cubicBezTo>
                  <a:cubicBezTo>
                    <a:pt x="1230" y="436"/>
                    <a:pt x="1101" y="218"/>
                    <a:pt x="972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001400">
              <a:off x="2701800" y="3645720"/>
              <a:ext cx="1976760" cy="1886760"/>
            </a:xfrm>
            <a:custGeom>
              <a:avLst/>
              <a:gdLst/>
              <a:ahLst/>
              <a:rect l="l" t="t" r="r" b="b"/>
              <a:pathLst>
                <a:path w="3193" h="2638">
                  <a:moveTo>
                    <a:pt x="3054" y="2519"/>
                  </a:moveTo>
                  <a:cubicBezTo>
                    <a:pt x="2895" y="2350"/>
                    <a:pt x="2737" y="2182"/>
                    <a:pt x="2459" y="1924"/>
                  </a:cubicBezTo>
                  <a:cubicBezTo>
                    <a:pt x="2181" y="1666"/>
                    <a:pt x="1705" y="1071"/>
                    <a:pt x="1388" y="972"/>
                  </a:cubicBezTo>
                  <a:cubicBezTo>
                    <a:pt x="1071" y="873"/>
                    <a:pt x="733" y="1329"/>
                    <a:pt x="555" y="1329"/>
                  </a:cubicBezTo>
                  <a:cubicBezTo>
                    <a:pt x="377" y="1329"/>
                    <a:pt x="317" y="992"/>
                    <a:pt x="317" y="972"/>
                  </a:cubicBezTo>
                  <a:cubicBezTo>
                    <a:pt x="317" y="952"/>
                    <a:pt x="515" y="1210"/>
                    <a:pt x="555" y="1210"/>
                  </a:cubicBezTo>
                  <a:cubicBezTo>
                    <a:pt x="595" y="1210"/>
                    <a:pt x="634" y="1051"/>
                    <a:pt x="555" y="972"/>
                  </a:cubicBezTo>
                  <a:cubicBezTo>
                    <a:pt x="476" y="893"/>
                    <a:pt x="158" y="813"/>
                    <a:pt x="79" y="734"/>
                  </a:cubicBezTo>
                  <a:cubicBezTo>
                    <a:pt x="0" y="655"/>
                    <a:pt x="59" y="496"/>
                    <a:pt x="79" y="496"/>
                  </a:cubicBezTo>
                  <a:cubicBezTo>
                    <a:pt x="99" y="496"/>
                    <a:pt x="119" y="675"/>
                    <a:pt x="198" y="734"/>
                  </a:cubicBezTo>
                  <a:cubicBezTo>
                    <a:pt x="277" y="793"/>
                    <a:pt x="496" y="853"/>
                    <a:pt x="555" y="853"/>
                  </a:cubicBezTo>
                  <a:cubicBezTo>
                    <a:pt x="614" y="853"/>
                    <a:pt x="595" y="774"/>
                    <a:pt x="555" y="734"/>
                  </a:cubicBezTo>
                  <a:cubicBezTo>
                    <a:pt x="515" y="694"/>
                    <a:pt x="396" y="714"/>
                    <a:pt x="317" y="615"/>
                  </a:cubicBezTo>
                  <a:cubicBezTo>
                    <a:pt x="238" y="516"/>
                    <a:pt x="79" y="179"/>
                    <a:pt x="79" y="139"/>
                  </a:cubicBezTo>
                  <a:cubicBezTo>
                    <a:pt x="79" y="99"/>
                    <a:pt x="258" y="298"/>
                    <a:pt x="317" y="377"/>
                  </a:cubicBezTo>
                  <a:cubicBezTo>
                    <a:pt x="376" y="456"/>
                    <a:pt x="396" y="615"/>
                    <a:pt x="436" y="615"/>
                  </a:cubicBezTo>
                  <a:cubicBezTo>
                    <a:pt x="476" y="615"/>
                    <a:pt x="555" y="476"/>
                    <a:pt x="555" y="377"/>
                  </a:cubicBezTo>
                  <a:cubicBezTo>
                    <a:pt x="555" y="278"/>
                    <a:pt x="396" y="0"/>
                    <a:pt x="436" y="20"/>
                  </a:cubicBezTo>
                  <a:cubicBezTo>
                    <a:pt x="476" y="40"/>
                    <a:pt x="674" y="417"/>
                    <a:pt x="793" y="496"/>
                  </a:cubicBezTo>
                  <a:cubicBezTo>
                    <a:pt x="912" y="575"/>
                    <a:pt x="1031" y="417"/>
                    <a:pt x="1150" y="496"/>
                  </a:cubicBezTo>
                  <a:cubicBezTo>
                    <a:pt x="1269" y="575"/>
                    <a:pt x="1210" y="655"/>
                    <a:pt x="1507" y="972"/>
                  </a:cubicBezTo>
                  <a:cubicBezTo>
                    <a:pt x="1804" y="1289"/>
                    <a:pt x="2677" y="2162"/>
                    <a:pt x="2935" y="2400"/>
                  </a:cubicBezTo>
                  <a:cubicBezTo>
                    <a:pt x="3193" y="2638"/>
                    <a:pt x="3123" y="2519"/>
                    <a:pt x="3054" y="240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611200">
              <a:off x="3835800" y="2369160"/>
              <a:ext cx="2683080" cy="3107160"/>
            </a:xfrm>
            <a:custGeom>
              <a:avLst/>
              <a:gdLst/>
              <a:ahLst/>
              <a:rect l="l" t="t" r="r" b="b"/>
              <a:pathLst>
                <a:path w="4225" h="4343">
                  <a:moveTo>
                    <a:pt x="516" y="4006"/>
                  </a:moveTo>
                  <a:cubicBezTo>
                    <a:pt x="1716" y="3718"/>
                    <a:pt x="2916" y="3431"/>
                    <a:pt x="3491" y="2935"/>
                  </a:cubicBezTo>
                  <a:cubicBezTo>
                    <a:pt x="4066" y="2439"/>
                    <a:pt x="3888" y="1388"/>
                    <a:pt x="3967" y="1031"/>
                  </a:cubicBezTo>
                  <a:cubicBezTo>
                    <a:pt x="4046" y="674"/>
                    <a:pt x="4007" y="753"/>
                    <a:pt x="3967" y="793"/>
                  </a:cubicBezTo>
                  <a:cubicBezTo>
                    <a:pt x="3927" y="833"/>
                    <a:pt x="3788" y="1388"/>
                    <a:pt x="3729" y="1269"/>
                  </a:cubicBezTo>
                  <a:cubicBezTo>
                    <a:pt x="3670" y="1150"/>
                    <a:pt x="3650" y="158"/>
                    <a:pt x="3610" y="79"/>
                  </a:cubicBezTo>
                  <a:cubicBezTo>
                    <a:pt x="3570" y="0"/>
                    <a:pt x="3550" y="793"/>
                    <a:pt x="3491" y="793"/>
                  </a:cubicBezTo>
                  <a:cubicBezTo>
                    <a:pt x="3432" y="793"/>
                    <a:pt x="3293" y="59"/>
                    <a:pt x="3253" y="79"/>
                  </a:cubicBezTo>
                  <a:cubicBezTo>
                    <a:pt x="3213" y="99"/>
                    <a:pt x="3332" y="793"/>
                    <a:pt x="3253" y="912"/>
                  </a:cubicBezTo>
                  <a:cubicBezTo>
                    <a:pt x="3174" y="1031"/>
                    <a:pt x="2777" y="734"/>
                    <a:pt x="2777" y="793"/>
                  </a:cubicBezTo>
                  <a:cubicBezTo>
                    <a:pt x="2777" y="852"/>
                    <a:pt x="3253" y="1170"/>
                    <a:pt x="3253" y="1269"/>
                  </a:cubicBezTo>
                  <a:cubicBezTo>
                    <a:pt x="3253" y="1368"/>
                    <a:pt x="2856" y="1329"/>
                    <a:pt x="2777" y="1388"/>
                  </a:cubicBezTo>
                  <a:cubicBezTo>
                    <a:pt x="2698" y="1447"/>
                    <a:pt x="2658" y="1606"/>
                    <a:pt x="2777" y="1626"/>
                  </a:cubicBezTo>
                  <a:cubicBezTo>
                    <a:pt x="2896" y="1646"/>
                    <a:pt x="3332" y="1329"/>
                    <a:pt x="3491" y="1507"/>
                  </a:cubicBezTo>
                  <a:cubicBezTo>
                    <a:pt x="3650" y="1685"/>
                    <a:pt x="4225" y="2261"/>
                    <a:pt x="3729" y="2697"/>
                  </a:cubicBezTo>
                  <a:cubicBezTo>
                    <a:pt x="3233" y="3133"/>
                    <a:pt x="1032" y="3907"/>
                    <a:pt x="516" y="4125"/>
                  </a:cubicBezTo>
                  <a:cubicBezTo>
                    <a:pt x="0" y="4343"/>
                    <a:pt x="317" y="4174"/>
                    <a:pt x="635" y="4006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ГАДКИ И ШАРАДЫ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200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Шла старушка в Москву и навстречу ей три старика. Сколько человек шло в Москву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">
            <a:hlinkClick r:id="rId1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ГАДКИ И ШАРАДЫ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00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Что легче: пуд ваты или пуд железа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">
            <a:hlinkClick r:id="rId1" action="ppaction://hlinksldjump"/>
          </p:cNvPr>
          <p:cNvSpPr/>
          <p:nvPr/>
        </p:nvSpPr>
        <p:spPr>
          <a:xfrm>
            <a:off x="774072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ГАДКИ И ШАРАДЫ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600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Двое играли в шахматы 4 часа. Сколько времени играл каждый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">
            <a:hlinkClick r:id="rId1" action="ppaction://hlinksldjump"/>
          </p:cNvPr>
          <p:cNvSpPr/>
          <p:nvPr/>
        </p:nvSpPr>
        <p:spPr>
          <a:xfrm>
            <a:off x="788508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ГАДКИ И ШАРАДЫ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00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Петух, стоя на одной ноге, весит 5 кг. Сколько он весить будет, если встанет на об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7812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ГАДКИ И ШАРАДЫ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00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В одной семье у каждого из трёх братьев есть сестра. Сколько детей в семье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">
            <a:hlinkClick r:id="rId1" action="ppaction://hlinksldjump"/>
          </p:cNvPr>
          <p:cNvSpPr/>
          <p:nvPr/>
        </p:nvSpPr>
        <p:spPr>
          <a:xfrm>
            <a:off x="788508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усский язык и литература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 7 прибавить 5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ак правильно записать: «одиннадцать» или «одинацать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">
            <a:hlinkClick r:id="rId1" action="ppaction://hlinksldjump"/>
          </p:cNvPr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усский язык и литература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Знаменитый гусляр, побывавший, на дне море-океане у морского цар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781200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4:31:35Z</dcterms:created>
  <dc:creator>Name</dc:creator>
  <dc:description/>
  <dc:language>en-US</dc:language>
  <cp:lastModifiedBy>Администратор</cp:lastModifiedBy>
  <dcterms:modified xsi:type="dcterms:W3CDTF">2007-12-10T07:35:36Z</dcterms:modified>
  <cp:revision>38</cp:revision>
  <dc:subject/>
  <dc:title>СВОЯ ИГРА</dc:title>
</cp:coreProperties>
</file>